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014F-4F6F-454A-9F9F-3E32BAF05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43AF-D801-43F4-9F7B-E093AB2B7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83F2-6892-42F1-AAEE-09A0F43FA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BBF2-2605-4FF7-B3AF-407EA28B7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 Note:  This is a vector graphic (WMF) from the clipart files in Microsoft PowerPoint.  Notice that the image does not become pixelated when it is resized, it retains the original qual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break the image down into its individual par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im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Draw toolbar, click on Ungro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Yes in the Dialog bo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Draw, Ungroup ag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e individual shapes can be moved and manipulated. For a fun activity, allow students to experiment with ungrouping an image and re-coloring it. Be sure they Regroup it before trying to move it, though. If they don’t regroup, they will only move pieces of the image instead of the entire im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B93C-1703-4C94-8FF1-8CD950FAE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53EF-CE04-4A75-AB15-BD2A5AAF6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7432-07CD-4611-B026-8315F57A3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 Note:  Emphasize to the students the much better quality of the raster graphic because it is made up of pixels which can show much more detail than l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erlink opens this URL:  http://alabamamaps.ua.edu/tutorial/example1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A30D-AF89-4140-A41E-97A15B570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B331-1E07-41B9-A7E4-692354EA0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DE56-FA1D-478B-8C1B-100F657C1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 Note: For more information, visit this link:  http://www.sqa.org.uk/e-learning/BitVect01CD/page_29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B6034-7D01-47E1-A5F2-E2828C8808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44A9B-3C1B-4CA6-B7D8-90BDBC04FF5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09082-5D9F-4074-A532-8FBBA6DD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93AF7-93D8-4C45-A922-710885BE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940E8-1936-4C5B-852A-35481254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FC322-79F3-48EE-A157-99425AC9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47E3E-DDAD-4776-9203-153718E9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1D902-EB65-4754-8A79-F5FFF437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D24FE-CE23-4E92-8860-64C403B2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EAFDF-A290-4584-A660-6AC026B6E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E9DC7-1501-439F-9BBF-61E1EBA56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FD471-90D9-4310-AB8C-B904ADA41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9E27D-AC0C-4F05-BF1C-49BCC3F1E41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4835A9-8444-4D2E-95FB-1D58808C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1F815D-2F6A-425B-8DDB-26DD2249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65806-C4F5-4643-A425-F4798A8A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F5472-DE6C-4BD8-BF16-36A1B629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6A30D-7873-4EC3-A251-AED39078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71CF83-A288-4999-90FE-16B6C710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20F09A-ADFE-4164-9DD9-31A214B0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76E2E-7606-4F92-A827-15E68605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780E2B-0FF0-4412-B7BB-DBC79DBB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97690-7093-4A0B-948A-E4188A2A4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52A82-F84B-445B-97EA-83792ADADCE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88B09-D2AE-4582-8DBE-486A32410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9365F-A123-4FF7-BB5F-AA3BFD48B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F286B8-7BB7-4A8D-A920-9AE0397C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D176D7-DA90-4463-B4EA-F88BA8CD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D96329-AD4A-436E-8035-6EFECF70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122C53-3937-4902-85C6-D5299978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1C9ED3-B22C-427E-B56E-044784B9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0C1371-31FD-4895-B678-45815B4D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5533E0-B6B3-4D93-837B-FE98DF6E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9A4516-9E95-4751-8EDE-E9525D2E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89C83-B857-44B5-8B3B-BBE5C7D3D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A80D3A-8A5A-42B2-AC49-2B624E35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8CD218-3C89-4E83-AD5F-FC215AD86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3630D-E565-428E-AC44-8B579C44D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2F525-BF1E-45AC-8E87-6118E418F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039FC-8676-400B-B9D8-E2B53E5D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AD767-B732-474B-A2B3-39F35E12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8181D-1150-4460-9027-717CF170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D30F6-50A2-49E6-BFBE-966DB15D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1D9E0-C37B-4DD1-A848-955342B0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EEAF6-2643-45B5-AB11-E7ADF893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EB079-4D7D-4192-9608-38729DA0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16254-DC8B-4835-83D7-3C4AED18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A65D0-8CFF-4CFA-BFA3-BAE1C999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B3286-3BA6-44BA-A745-CC48DB44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DD907-7633-4F7C-AF44-E705051F3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D3DC4-785F-4815-AB58-3A3AC0C90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0DB35D-7689-441A-AE41-8306BB7D3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B403BE-FAA5-4E63-BC57-7CE1B6C4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DC2A07-DC24-4B7C-9747-85F4E682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FBB4A6-5947-4F3A-90DD-78232771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476A38-6760-4808-929B-00CE3DF8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BBE3F-B8FF-423C-9E9B-B5D6B731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2E2B04-A098-4D66-B8B9-2679F73B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BCE950-245D-475A-B14C-78D85F60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33F2AE-AF2F-4F14-979F-0ACEBA2B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ABD21E-7C16-4384-8724-16F14764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7DE623-F21A-4A63-9787-75821FE6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C60F49-8683-4205-918D-46711088D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ECE3C3-C9A8-4C46-9D14-236598FD2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3AB74-921C-4602-ABF7-F2D4DBA6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09D3A-959D-4589-9C65-C72EC658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7A151-56D7-4F6E-B409-9898EB4C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1F2E0-6000-4B2E-8D93-7C008203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D4F7E-D081-4E6E-A123-BFB471939F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FD424-E0B8-42DC-A420-C05577EE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21265-E99D-40AD-A42D-3BE63027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E4C988-A2AB-4BE1-8F64-28099E11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165359-A507-4C87-BD82-4E07D087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E2FFE-FEB0-4979-9A7C-0515527CC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08E062-AC4F-40CD-8B9B-2E262862C8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39B853-FEAD-4330-99CC-B40F049E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52D6BA-3BDF-4684-B0CE-7B38F5FF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34FE82-E8EF-49FE-84FD-6A7C6E92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BB95CC-CCDA-4048-BC56-A08EEC203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19D33-C6D6-4B11-9B52-76BC8083384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A55692-3907-407D-A3C0-B6FA2E409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CE43CC-66A2-4A7A-B15F-C169FF3D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3BD5BD-626D-4C7B-8C90-016148C5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5AE73B-FDE6-4904-959C-13386BDC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DF2996-C9F8-4179-B7D0-D8B3B996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B6C923-989B-4142-A348-E8AE604C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C16C85-7A01-4CFE-A63E-83223F816E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34FA97-A138-402C-92B3-634907BEE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3CF392-7CAC-4839-A7D7-0ED9BF06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C821E0-A27B-4721-861F-846C1854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B4220-4E87-4611-AE12-93696AD426B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B94217-4996-4487-96ED-9E4F002B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8E87F5-CAAD-45CA-82B3-898A2416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EC8765-99FB-4AEC-9ECB-9A7FCE41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BF7EFC-C905-4089-A3B3-750E1D88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6DD87F-4831-4ED2-A15F-419B8AE9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9A9C85-3355-41CC-AF94-60BC0439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B8C140-96F1-46A6-A882-544DADD2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8ED3C0-32C5-4475-B52C-2EFA8F71E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58077B-78EC-4D11-8F5A-5D44AF69E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2BB0E-68F9-4265-9DD0-3D9D4E4DB1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6D9C6-FFFB-44DA-AC41-A1876BD14F3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748F3-F41E-4F60-8468-62A4CF33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48395-FFAF-44FF-968B-D0B5EE50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EB964-9369-41DF-B5B4-F22CD72D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FA861-9C43-4A26-8D3D-5105FCA78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F8E93-AACF-4C97-8618-A6C0F7F66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935DB-82B7-49A9-8F80-5816FB3C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D1A99-0213-49FB-A3A8-0717492F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D9EC5-A7F1-4687-8199-CF5CB6A2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37AB6-111E-4D07-B91F-B1F35CF7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72BD4-9C6C-4087-A11C-DD53EA75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6E097-6C01-4FCD-9EFF-CF11D6ACADF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4E55A-3A0E-473F-ACBB-88BCF1A534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C7687-7E09-445E-8111-4C8677E48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0EF14-57E1-43F8-A0C5-551BDA79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B08E0-7056-43E5-BACE-542C38BA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24C3A-5C23-4A6C-B559-EAEE6C73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E1E35-A266-4007-8964-09943BEC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C6C51-D5D3-483A-9A7E-5ABF70EC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7E72F-B87E-4132-802F-EF78CF76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14522-A2EC-4572-883F-83C68F10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BAE76-891C-4F3F-9369-E250561D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D755B-C7E5-4BAA-9DA0-4938C5B0004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DE5DD-ACAC-4482-81DC-B8A6BADE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8C637-B911-43BD-9989-B9F1D0F5C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DD475-071D-4697-B4E7-4FEB81A2D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519C8-BDD5-41AF-BF4D-1C330FBAD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D0378-3F36-4711-BFEE-FB248A3D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FFC09-F996-445E-93B7-97E08F9D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82DCB-EFD1-4A4B-8654-0013FE34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1C09A-D117-40AC-9B34-0A78298A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55EBF-A21B-41A3-93F7-6B113E2E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F918B-83C6-4C34-9C49-4C253134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B816E-4CB5-4559-86ED-7C43632CAB6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351F6-EBD5-4C91-88A0-8CDC16CA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ECFFD-E717-470C-9888-B2B3270F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70B0F-A921-418C-BF85-80E502B2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A5478-1084-4797-B195-25C2E01E0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6F61E-618A-4A0C-BAEE-5F9417C6F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965CB-2B9D-4BDA-A368-8EBA561FA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B7C71-67BE-48CE-B115-1DA33ED4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5A6E6-8A0C-4DC6-8628-132787B2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DC193-026C-4DF8-AE17-D5414CE2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07A2B-8A28-4685-8E55-2B13216A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E51ED-9FB3-487A-99DE-8A8E38AD616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53AB6-A395-4CEC-B58D-662DFAEC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EFA87-1699-4FF6-95EB-4A010106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D2F9F-5ABF-4E21-87C5-9B1ED092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860F7-44E9-4975-A325-A5D2F04E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8ACAF-C434-4EE4-BFA8-06ED3B25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B3DE1-84BE-40E7-9CD9-DA736947A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55DD4-DBAF-48D7-85EA-367DB3B8C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25011-4959-4A91-BF94-C5EA4A6DF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FDF10-494C-410C-9638-DA5D1BC6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F38D3-6397-4D0F-B8B2-AC385F81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1"/>
          </p:nvPr>
        </p:nvSpPr>
        <p:spPr>
          <a:xfrm>
            <a:off x="1066320" y="624852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1.01 Investigate graphic types and file forma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AEC9-1EFC-4B3A-9C67-A9CDC8F96257}" type="slidenum">
              <a:rPr b="0" lang="en-US" sz="14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574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575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4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25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26"/>
          </p:nvPr>
        </p:nvSpPr>
        <p:spPr>
          <a:xfrm>
            <a:off x="1066320" y="624852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1.01 Investigate graphic types and file forma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56D8-9C93-4A4F-BFAE-BFC30400BFE8}" type="slidenum">
              <a:rPr b="0" lang="en-US" sz="14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638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639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8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28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29"/>
          </p:nvPr>
        </p:nvSpPr>
        <p:spPr>
          <a:xfrm>
            <a:off x="1066320" y="624852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1.01 Investigate graphic types and file forma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5B76-D826-4A11-A275-FE336598E3FA}" type="slidenum">
              <a:rPr b="0" lang="en-US" sz="14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1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702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703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2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3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32"/>
          </p:nvPr>
        </p:nvSpPr>
        <p:spPr>
          <a:xfrm>
            <a:off x="1066320" y="624852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1.01 Investigate graphic types and file forma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7C88-2BBE-45C2-A3F8-E1C11FCEB1ED}" type="slidenum">
              <a:rPr b="0" lang="en-US" sz="14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766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767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6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066320" y="624852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1.01 Investigate graphic types and file forma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E46E-707A-45AE-BC9B-6B0F6CD9D74D}" type="slidenum">
              <a:rPr b="0" lang="en-US" sz="14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4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5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3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4"/>
          </p:nvPr>
        </p:nvSpPr>
        <p:spPr>
          <a:xfrm>
            <a:off x="1066320" y="624852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1.01 Investigate graphic types and file forma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ABFA-776D-4DB7-AA38-DBBCB1AD1A55}" type="slidenum">
              <a:rPr b="0" lang="en-US" sz="14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28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129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6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87B5-2D1E-465D-8763-101486BBA065}" type="slidenum">
              <a:rPr b="0" lang="en-US" sz="14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9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19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8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9"/>
          </p:nvPr>
        </p:nvSpPr>
        <p:spPr>
          <a:xfrm>
            <a:off x="1066320" y="624852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1.01 Investigate graphic types and file forma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39CF-A9AF-4213-952D-0D2E99B6FC13}" type="slidenum">
              <a:rPr b="0" lang="en-US" sz="14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255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56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741D-FF33-4B4F-A5FA-980B39E94C42}" type="slidenum">
              <a:rPr b="0" lang="en-US" sz="14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318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319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3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14"/>
          </p:nvPr>
        </p:nvSpPr>
        <p:spPr>
          <a:xfrm>
            <a:off x="1066320" y="624852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1.01 Investigate graphic types and file forma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90BA-BF65-4042-AD5D-1ACF548C81C3}" type="slidenum">
              <a:rPr b="0" lang="en-US" sz="14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382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383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6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17"/>
          </p:nvPr>
        </p:nvSpPr>
        <p:spPr>
          <a:xfrm>
            <a:off x="1066320" y="624852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1.01 Investigate graphic types and file forma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0E8E-99CB-4D12-8308-1A05A99438DC}" type="slidenum">
              <a:rPr b="0" lang="en-US" sz="14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446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447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6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19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20"/>
          </p:nvPr>
        </p:nvSpPr>
        <p:spPr>
          <a:xfrm>
            <a:off x="1066320" y="624852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1.01 Investigate graphic types and file forma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F6EC-6854-4652-9076-6B6ABC69BDDE}" type="slidenum">
              <a:rPr b="0" lang="en-US" sz="14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510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511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0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22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ftr" idx="23"/>
          </p:nvPr>
        </p:nvSpPr>
        <p:spPr>
          <a:xfrm>
            <a:off x="1066320" y="624852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1.01 Investigate graphic types and file forma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FA02-A203-4122-8BD8-221ABD1530D1}" type="slidenum">
              <a:rPr b="0" lang="en-US" sz="14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qvectors.com/" TargetMode="Externa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alabamamaps.ua.edu/tutorial/example1.html" TargetMode="Externa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Calibri"/>
              </a:rPr>
              <a:t>Vector Graphics</a:t>
            </a:r>
            <a:endParaRPr b="0" lang="en-US" sz="72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7367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2.01 Investigate graphic image design</a:t>
            </a: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Calibri"/>
              </a:rPr>
              <a:t>More Vector Formats </a:t>
            </a:r>
            <a:endParaRPr b="0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VG – Scalable Vector Graphics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tandard format created by W3C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Versatile, all-purpose vector forma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DR – Corel Draw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XF – AutoCA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MF – Windows Metafil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Calibri"/>
            </a:endParaRPr>
          </a:p>
        </p:txBody>
      </p:sp>
      <p:grpSp>
        <p:nvGrpSpPr>
          <p:cNvPr id="839" name="Group 14"/>
          <p:cNvGrpSpPr/>
          <p:nvPr/>
        </p:nvGrpSpPr>
        <p:grpSpPr>
          <a:xfrm>
            <a:off x="4572000" y="3906720"/>
            <a:ext cx="4572000" cy="2951280"/>
            <a:chOff x="4572000" y="3906720"/>
            <a:chExt cx="4572000" cy="2951280"/>
          </a:xfrm>
        </p:grpSpPr>
        <p:pic>
          <p:nvPicPr>
            <p:cNvPr id="840" name="Picture 9" descr="B%C3%A9zier_curve_in_Adobe_Illustrator_CS2"/>
            <p:cNvPicPr/>
            <p:nvPr/>
          </p:nvPicPr>
          <p:blipFill>
            <a:blip r:embed="rId1"/>
            <a:stretch/>
          </p:blipFill>
          <p:spPr>
            <a:xfrm>
              <a:off x="5486400" y="3906720"/>
              <a:ext cx="3657600" cy="29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Text Box 10"/>
            <p:cNvSpPr/>
            <p:nvPr/>
          </p:nvSpPr>
          <p:spPr>
            <a:xfrm>
              <a:off x="4572000" y="54864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N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Line 11"/>
            <p:cNvSpPr/>
            <p:nvPr/>
          </p:nvSpPr>
          <p:spPr>
            <a:xfrm flipV="1">
              <a:off x="5410080" y="548604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Text Box 12"/>
            <p:cNvSpPr/>
            <p:nvPr/>
          </p:nvSpPr>
          <p:spPr>
            <a:xfrm>
              <a:off x="7767720" y="62485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Hand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13"/>
            <p:cNvSpPr/>
            <p:nvPr/>
          </p:nvSpPr>
          <p:spPr>
            <a:xfrm flipH="1" flipV="1">
              <a:off x="8001000" y="6019920"/>
              <a:ext cx="380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5" name=""/>
          <p:cNvSpPr txBox="1"/>
          <p:nvPr/>
        </p:nvSpPr>
        <p:spPr>
          <a:xfrm>
            <a:off x="914040" y="10666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3840" indent="-393840">
              <a:spcBef>
                <a:spcPts val="774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mbria"/>
              </a:rPr>
              <a:t>Vector graphics are created from  mathematical formulas used to define lines, shapes and curves. </a:t>
            </a:r>
            <a:endParaRPr b="0" lang="en-US" sz="3100" spc="-1" strike="noStrike">
              <a:solidFill>
                <a:srgbClr val="000000"/>
              </a:solidFill>
              <a:latin typeface="Cambria"/>
            </a:endParaRPr>
          </a:p>
          <a:p>
            <a:pPr marL="393840" indent="-393840">
              <a:spcBef>
                <a:spcPts val="774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mbria"/>
              </a:rPr>
              <a:t>Edited in draw programs </a:t>
            </a:r>
            <a:endParaRPr b="0" lang="en-US" sz="3100" spc="-1" strike="noStrike">
              <a:solidFill>
                <a:srgbClr val="000000"/>
              </a:solidFill>
              <a:latin typeface="Cambria"/>
            </a:endParaRPr>
          </a:p>
          <a:p>
            <a:pPr marL="393840" indent="-393840">
              <a:spcBef>
                <a:spcPts val="774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mbria"/>
              </a:rPr>
              <a:t>Shapes can be edited by moving points called nodes (drawing points)</a:t>
            </a:r>
            <a:endParaRPr b="0" lang="en-US" sz="3100" spc="-1" strike="noStrike">
              <a:solidFill>
                <a:srgbClr val="000000"/>
              </a:solidFill>
              <a:latin typeface="Cambria"/>
            </a:endParaRPr>
          </a:p>
          <a:p>
            <a:pPr marL="393840" indent="-393840">
              <a:spcBef>
                <a:spcPts val="774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6" name="Rectangle 5"/>
          <p:cNvSpPr/>
          <p:nvPr/>
        </p:nvSpPr>
        <p:spPr>
          <a:xfrm>
            <a:off x="1066680" y="22860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Calibri"/>
              </a:rPr>
              <a:t>Vector Graphic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1142640" y="5638320"/>
            <a:ext cx="57913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re example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 Narrow"/>
                <a:hlinkClick r:id="rId1"/>
              </a:rPr>
              <a:t>http://qvectors.com/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9" name="Text Box 7"/>
          <p:cNvSpPr/>
          <p:nvPr/>
        </p:nvSpPr>
        <p:spPr>
          <a:xfrm>
            <a:off x="1295280" y="17524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0" name="Group 14"/>
          <p:cNvGrpSpPr/>
          <p:nvPr/>
        </p:nvGrpSpPr>
        <p:grpSpPr>
          <a:xfrm>
            <a:off x="1371600" y="1371600"/>
            <a:ext cx="2362320" cy="2288520"/>
            <a:chOff x="1371600" y="1371600"/>
            <a:chExt cx="2362320" cy="2288520"/>
          </a:xfrm>
        </p:grpSpPr>
        <p:pic>
          <p:nvPicPr>
            <p:cNvPr id="851" name="Picture 11" descr="j0305651"/>
            <p:cNvPicPr/>
            <p:nvPr/>
          </p:nvPicPr>
          <p:blipFill>
            <a:blip r:embed="rId2"/>
            <a:stretch/>
          </p:blipFill>
          <p:spPr>
            <a:xfrm>
              <a:off x="1600200" y="1371600"/>
              <a:ext cx="1179360" cy="180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Text Box 12"/>
            <p:cNvSpPr/>
            <p:nvPr/>
          </p:nvSpPr>
          <p:spPr>
            <a:xfrm>
              <a:off x="1371600" y="320040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Original Im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Group 16"/>
          <p:cNvGrpSpPr/>
          <p:nvPr/>
        </p:nvGrpSpPr>
        <p:grpSpPr>
          <a:xfrm>
            <a:off x="3809880" y="1523880"/>
            <a:ext cx="2133720" cy="4128480"/>
            <a:chOff x="3809880" y="1523880"/>
            <a:chExt cx="2133720" cy="4128480"/>
          </a:xfrm>
        </p:grpSpPr>
        <p:pic>
          <p:nvPicPr>
            <p:cNvPr id="854" name="Picture 13" descr="j0305651"/>
            <p:cNvPicPr/>
            <p:nvPr/>
          </p:nvPicPr>
          <p:blipFill>
            <a:blip r:embed="rId3"/>
            <a:stretch/>
          </p:blipFill>
          <p:spPr>
            <a:xfrm>
              <a:off x="3809880" y="1523880"/>
              <a:ext cx="2133720" cy="321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Text Box 15"/>
            <p:cNvSpPr/>
            <p:nvPr/>
          </p:nvSpPr>
          <p:spPr>
            <a:xfrm>
              <a:off x="4101840" y="4826880"/>
              <a:ext cx="1826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Resized Im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Group 42"/>
          <p:cNvGrpSpPr/>
          <p:nvPr/>
        </p:nvGrpSpPr>
        <p:grpSpPr>
          <a:xfrm>
            <a:off x="6477120" y="1600200"/>
            <a:ext cx="2144160" cy="4848840"/>
            <a:chOff x="6477120" y="1600200"/>
            <a:chExt cx="2144160" cy="4848840"/>
          </a:xfrm>
        </p:grpSpPr>
        <p:sp>
          <p:nvSpPr>
            <p:cNvPr id="857" name="Text Box 19"/>
            <p:cNvSpPr/>
            <p:nvPr/>
          </p:nvSpPr>
          <p:spPr>
            <a:xfrm>
              <a:off x="6705360" y="5257800"/>
              <a:ext cx="1904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Shapes that make up the imag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8" name="Group 41"/>
            <p:cNvGrpSpPr/>
            <p:nvPr/>
          </p:nvGrpSpPr>
          <p:grpSpPr>
            <a:xfrm>
              <a:off x="6477120" y="1600200"/>
              <a:ext cx="2144160" cy="3508200"/>
              <a:chOff x="6477120" y="1600200"/>
              <a:chExt cx="2144160" cy="3508200"/>
            </a:xfrm>
          </p:grpSpPr>
          <p:sp>
            <p:nvSpPr>
              <p:cNvPr id="859" name="AutoShape 20"/>
              <p:cNvSpPr/>
              <p:nvPr/>
            </p:nvSpPr>
            <p:spPr>
              <a:xfrm>
                <a:off x="6477120" y="2209680"/>
                <a:ext cx="1577880" cy="241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Freeform 22"/>
              <p:cNvSpPr/>
              <p:nvPr/>
            </p:nvSpPr>
            <p:spPr>
              <a:xfrm>
                <a:off x="7086600" y="4114800"/>
                <a:ext cx="456840" cy="8100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575" h="101">
                    <a:moveTo>
                      <a:pt x="0" y="66"/>
                    </a:moveTo>
                    <a:lnTo>
                      <a:pt x="67" y="78"/>
                    </a:lnTo>
                    <a:lnTo>
                      <a:pt x="128" y="87"/>
                    </a:lnTo>
                    <a:lnTo>
                      <a:pt x="187" y="95"/>
                    </a:lnTo>
                    <a:lnTo>
                      <a:pt x="242" y="98"/>
                    </a:lnTo>
                    <a:lnTo>
                      <a:pt x="293" y="101"/>
                    </a:lnTo>
                    <a:lnTo>
                      <a:pt x="339" y="100"/>
                    </a:lnTo>
                    <a:lnTo>
                      <a:pt x="382" y="98"/>
                    </a:lnTo>
                    <a:lnTo>
                      <a:pt x="421" y="95"/>
                    </a:lnTo>
                    <a:lnTo>
                      <a:pt x="455" y="92"/>
                    </a:lnTo>
                    <a:lnTo>
                      <a:pt x="486" y="87"/>
                    </a:lnTo>
                    <a:lnTo>
                      <a:pt x="512" y="83"/>
                    </a:lnTo>
                    <a:lnTo>
                      <a:pt x="533" y="78"/>
                    </a:lnTo>
                    <a:lnTo>
                      <a:pt x="550" y="73"/>
                    </a:lnTo>
                    <a:lnTo>
                      <a:pt x="563" y="70"/>
                    </a:lnTo>
                    <a:lnTo>
                      <a:pt x="572" y="67"/>
                    </a:lnTo>
                    <a:lnTo>
                      <a:pt x="575" y="66"/>
                    </a:lnTo>
                    <a:lnTo>
                      <a:pt x="552" y="3"/>
                    </a:lnTo>
                    <a:lnTo>
                      <a:pt x="549" y="3"/>
                    </a:lnTo>
                    <a:lnTo>
                      <a:pt x="543" y="6"/>
                    </a:lnTo>
                    <a:lnTo>
                      <a:pt x="530" y="9"/>
                    </a:lnTo>
                    <a:lnTo>
                      <a:pt x="515" y="12"/>
                    </a:lnTo>
                    <a:lnTo>
                      <a:pt x="495" y="16"/>
                    </a:lnTo>
                    <a:lnTo>
                      <a:pt x="472" y="21"/>
                    </a:lnTo>
                    <a:lnTo>
                      <a:pt x="443" y="24"/>
                    </a:lnTo>
                    <a:lnTo>
                      <a:pt x="410" y="29"/>
                    </a:lnTo>
                    <a:lnTo>
                      <a:pt x="375" y="30"/>
                    </a:lnTo>
                    <a:lnTo>
                      <a:pt x="335" y="32"/>
                    </a:lnTo>
                    <a:lnTo>
                      <a:pt x="290" y="32"/>
                    </a:lnTo>
                    <a:lnTo>
                      <a:pt x="242" y="30"/>
                    </a:lnTo>
                    <a:lnTo>
                      <a:pt x="191" y="27"/>
                    </a:lnTo>
                    <a:lnTo>
                      <a:pt x="136" y="21"/>
                    </a:lnTo>
                    <a:lnTo>
                      <a:pt x="76" y="12"/>
                    </a:lnTo>
                    <a:lnTo>
                      <a:pt x="14" y="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a3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Freeform 23"/>
              <p:cNvSpPr/>
              <p:nvPr/>
            </p:nvSpPr>
            <p:spPr>
              <a:xfrm>
                <a:off x="6858000" y="4190760"/>
                <a:ext cx="1009080" cy="917640"/>
              </a:xfrm>
              <a:custGeom>
                <a:avLst/>
                <a:gdLst>
                  <a:gd name="textAreaLeft" fmla="*/ 0 w 1009080"/>
                  <a:gd name="textAreaRight" fmla="*/ 1009440 w 1009080"/>
                  <a:gd name="textAreaTop" fmla="*/ 0 h 917640"/>
                  <a:gd name="textAreaBottom" fmla="*/ 918000 h 917640"/>
                </a:gdLst>
                <a:ahLst/>
                <a:rect l="textAreaLeft" t="textAreaTop" r="textAreaRight" b="textAreaBottom"/>
                <a:pathLst>
                  <a:path w="1273" h="1155">
                    <a:moveTo>
                      <a:pt x="0" y="37"/>
                    </a:moveTo>
                    <a:lnTo>
                      <a:pt x="3" y="43"/>
                    </a:lnTo>
                    <a:lnTo>
                      <a:pt x="13" y="58"/>
                    </a:lnTo>
                    <a:lnTo>
                      <a:pt x="26" y="84"/>
                    </a:lnTo>
                    <a:lnTo>
                      <a:pt x="45" y="118"/>
                    </a:lnTo>
                    <a:lnTo>
                      <a:pt x="68" y="161"/>
                    </a:lnTo>
                    <a:lnTo>
                      <a:pt x="93" y="212"/>
                    </a:lnTo>
                    <a:lnTo>
                      <a:pt x="119" y="271"/>
                    </a:lnTo>
                    <a:lnTo>
                      <a:pt x="148" y="337"/>
                    </a:lnTo>
                    <a:lnTo>
                      <a:pt x="176" y="411"/>
                    </a:lnTo>
                    <a:lnTo>
                      <a:pt x="205" y="491"/>
                    </a:lnTo>
                    <a:lnTo>
                      <a:pt x="233" y="577"/>
                    </a:lnTo>
                    <a:lnTo>
                      <a:pt x="259" y="670"/>
                    </a:lnTo>
                    <a:lnTo>
                      <a:pt x="282" y="767"/>
                    </a:lnTo>
                    <a:lnTo>
                      <a:pt x="302" y="870"/>
                    </a:lnTo>
                    <a:lnTo>
                      <a:pt x="319" y="976"/>
                    </a:lnTo>
                    <a:lnTo>
                      <a:pt x="332" y="1087"/>
                    </a:lnTo>
                    <a:lnTo>
                      <a:pt x="336" y="1143"/>
                    </a:lnTo>
                    <a:lnTo>
                      <a:pt x="342" y="1140"/>
                    </a:lnTo>
                    <a:lnTo>
                      <a:pt x="358" y="1129"/>
                    </a:lnTo>
                    <a:lnTo>
                      <a:pt x="381" y="1115"/>
                    </a:lnTo>
                    <a:lnTo>
                      <a:pt x="407" y="1098"/>
                    </a:lnTo>
                    <a:lnTo>
                      <a:pt x="435" y="1080"/>
                    </a:lnTo>
                    <a:lnTo>
                      <a:pt x="463" y="1064"/>
                    </a:lnTo>
                    <a:lnTo>
                      <a:pt x="486" y="1049"/>
                    </a:lnTo>
                    <a:lnTo>
                      <a:pt x="501" y="1039"/>
                    </a:lnTo>
                    <a:lnTo>
                      <a:pt x="515" y="1052"/>
                    </a:lnTo>
                    <a:lnTo>
                      <a:pt x="535" y="1067"/>
                    </a:lnTo>
                    <a:lnTo>
                      <a:pt x="558" y="1086"/>
                    </a:lnTo>
                    <a:lnTo>
                      <a:pt x="583" y="1106"/>
                    </a:lnTo>
                    <a:lnTo>
                      <a:pt x="606" y="1124"/>
                    </a:lnTo>
                    <a:lnTo>
                      <a:pt x="626" y="1140"/>
                    </a:lnTo>
                    <a:lnTo>
                      <a:pt x="640" y="1150"/>
                    </a:lnTo>
                    <a:lnTo>
                      <a:pt x="644" y="1155"/>
                    </a:lnTo>
                    <a:lnTo>
                      <a:pt x="649" y="1150"/>
                    </a:lnTo>
                    <a:lnTo>
                      <a:pt x="660" y="1141"/>
                    </a:lnTo>
                    <a:lnTo>
                      <a:pt x="677" y="1124"/>
                    </a:lnTo>
                    <a:lnTo>
                      <a:pt x="697" y="1106"/>
                    </a:lnTo>
                    <a:lnTo>
                      <a:pt x="717" y="1087"/>
                    </a:lnTo>
                    <a:lnTo>
                      <a:pt x="738" y="1067"/>
                    </a:lnTo>
                    <a:lnTo>
                      <a:pt x="755" y="1052"/>
                    </a:lnTo>
                    <a:lnTo>
                      <a:pt x="769" y="1039"/>
                    </a:lnTo>
                    <a:lnTo>
                      <a:pt x="786" y="1050"/>
                    </a:lnTo>
                    <a:lnTo>
                      <a:pt x="811" y="1066"/>
                    </a:lnTo>
                    <a:lnTo>
                      <a:pt x="840" y="1083"/>
                    </a:lnTo>
                    <a:lnTo>
                      <a:pt x="871" y="1103"/>
                    </a:lnTo>
                    <a:lnTo>
                      <a:pt x="900" y="1121"/>
                    </a:lnTo>
                    <a:lnTo>
                      <a:pt x="925" y="1137"/>
                    </a:lnTo>
                    <a:lnTo>
                      <a:pt x="942" y="1146"/>
                    </a:lnTo>
                    <a:lnTo>
                      <a:pt x="948" y="1150"/>
                    </a:lnTo>
                    <a:lnTo>
                      <a:pt x="956" y="1098"/>
                    </a:lnTo>
                    <a:lnTo>
                      <a:pt x="957" y="1090"/>
                    </a:lnTo>
                    <a:lnTo>
                      <a:pt x="960" y="1069"/>
                    </a:lnTo>
                    <a:lnTo>
                      <a:pt x="965" y="1035"/>
                    </a:lnTo>
                    <a:lnTo>
                      <a:pt x="973" y="992"/>
                    </a:lnTo>
                    <a:lnTo>
                      <a:pt x="982" y="938"/>
                    </a:lnTo>
                    <a:lnTo>
                      <a:pt x="994" y="876"/>
                    </a:lnTo>
                    <a:lnTo>
                      <a:pt x="1008" y="808"/>
                    </a:lnTo>
                    <a:lnTo>
                      <a:pt x="1025" y="733"/>
                    </a:lnTo>
                    <a:lnTo>
                      <a:pt x="1045" y="654"/>
                    </a:lnTo>
                    <a:lnTo>
                      <a:pt x="1068" y="571"/>
                    </a:lnTo>
                    <a:lnTo>
                      <a:pt x="1094" y="486"/>
                    </a:lnTo>
                    <a:lnTo>
                      <a:pt x="1124" y="402"/>
                    </a:lnTo>
                    <a:lnTo>
                      <a:pt x="1156" y="315"/>
                    </a:lnTo>
                    <a:lnTo>
                      <a:pt x="1192" y="232"/>
                    </a:lnTo>
                    <a:lnTo>
                      <a:pt x="1230" y="151"/>
                    </a:lnTo>
                    <a:lnTo>
                      <a:pt x="1273" y="74"/>
                    </a:lnTo>
                    <a:lnTo>
                      <a:pt x="1215" y="40"/>
                    </a:lnTo>
                    <a:lnTo>
                      <a:pt x="1178" y="106"/>
                    </a:lnTo>
                    <a:lnTo>
                      <a:pt x="1142" y="175"/>
                    </a:lnTo>
                    <a:lnTo>
                      <a:pt x="1111" y="246"/>
                    </a:lnTo>
                    <a:lnTo>
                      <a:pt x="1081" y="320"/>
                    </a:lnTo>
                    <a:lnTo>
                      <a:pt x="1054" y="392"/>
                    </a:lnTo>
                    <a:lnTo>
                      <a:pt x="1030" y="465"/>
                    </a:lnTo>
                    <a:lnTo>
                      <a:pt x="1007" y="537"/>
                    </a:lnTo>
                    <a:lnTo>
                      <a:pt x="987" y="608"/>
                    </a:lnTo>
                    <a:lnTo>
                      <a:pt x="970" y="677"/>
                    </a:lnTo>
                    <a:lnTo>
                      <a:pt x="953" y="744"/>
                    </a:lnTo>
                    <a:lnTo>
                      <a:pt x="939" y="805"/>
                    </a:lnTo>
                    <a:lnTo>
                      <a:pt x="926" y="864"/>
                    </a:lnTo>
                    <a:lnTo>
                      <a:pt x="917" y="916"/>
                    </a:lnTo>
                    <a:lnTo>
                      <a:pt x="908" y="964"/>
                    </a:lnTo>
                    <a:lnTo>
                      <a:pt x="900" y="1004"/>
                    </a:lnTo>
                    <a:lnTo>
                      <a:pt x="896" y="1038"/>
                    </a:lnTo>
                    <a:lnTo>
                      <a:pt x="877" y="1027"/>
                    </a:lnTo>
                    <a:lnTo>
                      <a:pt x="856" y="1013"/>
                    </a:lnTo>
                    <a:lnTo>
                      <a:pt x="832" y="999"/>
                    </a:lnTo>
                    <a:lnTo>
                      <a:pt x="811" y="987"/>
                    </a:lnTo>
                    <a:lnTo>
                      <a:pt x="791" y="975"/>
                    </a:lnTo>
                    <a:lnTo>
                      <a:pt x="775" y="966"/>
                    </a:lnTo>
                    <a:lnTo>
                      <a:pt x="765" y="959"/>
                    </a:lnTo>
                    <a:lnTo>
                      <a:pt x="760" y="956"/>
                    </a:lnTo>
                    <a:lnTo>
                      <a:pt x="755" y="959"/>
                    </a:lnTo>
                    <a:lnTo>
                      <a:pt x="746" y="970"/>
                    </a:lnTo>
                    <a:lnTo>
                      <a:pt x="731" y="984"/>
                    </a:lnTo>
                    <a:lnTo>
                      <a:pt x="712" y="1001"/>
                    </a:lnTo>
                    <a:lnTo>
                      <a:pt x="692" y="1019"/>
                    </a:lnTo>
                    <a:lnTo>
                      <a:pt x="672" y="1038"/>
                    </a:lnTo>
                    <a:lnTo>
                      <a:pt x="655" y="1053"/>
                    </a:lnTo>
                    <a:lnTo>
                      <a:pt x="641" y="1066"/>
                    </a:lnTo>
                    <a:lnTo>
                      <a:pt x="626" y="1053"/>
                    </a:lnTo>
                    <a:lnTo>
                      <a:pt x="606" y="1038"/>
                    </a:lnTo>
                    <a:lnTo>
                      <a:pt x="584" y="1021"/>
                    </a:lnTo>
                    <a:lnTo>
                      <a:pt x="561" y="1001"/>
                    </a:lnTo>
                    <a:lnTo>
                      <a:pt x="540" y="984"/>
                    </a:lnTo>
                    <a:lnTo>
                      <a:pt x="523" y="970"/>
                    </a:lnTo>
                    <a:lnTo>
                      <a:pt x="510" y="959"/>
                    </a:lnTo>
                    <a:lnTo>
                      <a:pt x="506" y="956"/>
                    </a:lnTo>
                    <a:lnTo>
                      <a:pt x="503" y="958"/>
                    </a:lnTo>
                    <a:lnTo>
                      <a:pt x="493" y="964"/>
                    </a:lnTo>
                    <a:lnTo>
                      <a:pt x="481" y="972"/>
                    </a:lnTo>
                    <a:lnTo>
                      <a:pt x="466" y="982"/>
                    </a:lnTo>
                    <a:lnTo>
                      <a:pt x="447" y="993"/>
                    </a:lnTo>
                    <a:lnTo>
                      <a:pt x="429" y="1006"/>
                    </a:lnTo>
                    <a:lnTo>
                      <a:pt x="410" y="1016"/>
                    </a:lnTo>
                    <a:lnTo>
                      <a:pt x="393" y="1027"/>
                    </a:lnTo>
                    <a:lnTo>
                      <a:pt x="379" y="918"/>
                    </a:lnTo>
                    <a:lnTo>
                      <a:pt x="361" y="815"/>
                    </a:lnTo>
                    <a:lnTo>
                      <a:pt x="339" y="714"/>
                    </a:lnTo>
                    <a:lnTo>
                      <a:pt x="316" y="619"/>
                    </a:lnTo>
                    <a:lnTo>
                      <a:pt x="290" y="531"/>
                    </a:lnTo>
                    <a:lnTo>
                      <a:pt x="262" y="446"/>
                    </a:lnTo>
                    <a:lnTo>
                      <a:pt x="234" y="369"/>
                    </a:lnTo>
                    <a:lnTo>
                      <a:pt x="205" y="298"/>
                    </a:lnTo>
                    <a:lnTo>
                      <a:pt x="177" y="234"/>
                    </a:lnTo>
                    <a:lnTo>
                      <a:pt x="151" y="177"/>
                    </a:lnTo>
                    <a:lnTo>
                      <a:pt x="127" y="127"/>
                    </a:lnTo>
                    <a:lnTo>
                      <a:pt x="105" y="84"/>
                    </a:lnTo>
                    <a:lnTo>
                      <a:pt x="87" y="50"/>
                    </a:lnTo>
                    <a:lnTo>
                      <a:pt x="73" y="24"/>
                    </a:lnTo>
                    <a:lnTo>
                      <a:pt x="62" y="7"/>
                    </a:lnTo>
                    <a:lnTo>
                      <a:pt x="57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a3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Freeform 24"/>
              <p:cNvSpPr/>
              <p:nvPr/>
            </p:nvSpPr>
            <p:spPr>
              <a:xfrm>
                <a:off x="6705360" y="3809880"/>
                <a:ext cx="1172880" cy="274680"/>
              </a:xfrm>
              <a:custGeom>
                <a:avLst/>
                <a:gdLst>
                  <a:gd name="textAreaLeft" fmla="*/ 0 w 1172880"/>
                  <a:gd name="textAreaRight" fmla="*/ 1173240 w 1172880"/>
                  <a:gd name="textAreaTop" fmla="*/ 0 h 274680"/>
                  <a:gd name="textAreaBottom" fmla="*/ 275040 h 274680"/>
                </a:gdLst>
                <a:ahLst/>
                <a:rect l="textAreaLeft" t="textAreaTop" r="textAreaRight" b="textAreaBottom"/>
                <a:pathLst>
                  <a:path w="1478" h="347">
                    <a:moveTo>
                      <a:pt x="34" y="184"/>
                    </a:moveTo>
                    <a:lnTo>
                      <a:pt x="36" y="184"/>
                    </a:lnTo>
                    <a:lnTo>
                      <a:pt x="36" y="185"/>
                    </a:lnTo>
                    <a:lnTo>
                      <a:pt x="59" y="204"/>
                    </a:lnTo>
                    <a:lnTo>
                      <a:pt x="83" y="222"/>
                    </a:lnTo>
                    <a:lnTo>
                      <a:pt x="113" y="239"/>
                    </a:lnTo>
                    <a:lnTo>
                      <a:pt x="143" y="254"/>
                    </a:lnTo>
                    <a:lnTo>
                      <a:pt x="177" y="268"/>
                    </a:lnTo>
                    <a:lnTo>
                      <a:pt x="216" y="282"/>
                    </a:lnTo>
                    <a:lnTo>
                      <a:pt x="256" y="294"/>
                    </a:lnTo>
                    <a:lnTo>
                      <a:pt x="299" y="305"/>
                    </a:lnTo>
                    <a:lnTo>
                      <a:pt x="345" y="314"/>
                    </a:lnTo>
                    <a:lnTo>
                      <a:pt x="395" y="324"/>
                    </a:lnTo>
                    <a:lnTo>
                      <a:pt x="445" y="330"/>
                    </a:lnTo>
                    <a:lnTo>
                      <a:pt x="499" y="336"/>
                    </a:lnTo>
                    <a:lnTo>
                      <a:pt x="556" y="341"/>
                    </a:lnTo>
                    <a:lnTo>
                      <a:pt x="617" y="344"/>
                    </a:lnTo>
                    <a:lnTo>
                      <a:pt x="678" y="347"/>
                    </a:lnTo>
                    <a:lnTo>
                      <a:pt x="743" y="347"/>
                    </a:lnTo>
                    <a:lnTo>
                      <a:pt x="820" y="347"/>
                    </a:lnTo>
                    <a:lnTo>
                      <a:pt x="891" y="344"/>
                    </a:lnTo>
                    <a:lnTo>
                      <a:pt x="959" y="341"/>
                    </a:lnTo>
                    <a:lnTo>
                      <a:pt x="1020" y="338"/>
                    </a:lnTo>
                    <a:lnTo>
                      <a:pt x="1079" y="331"/>
                    </a:lnTo>
                    <a:lnTo>
                      <a:pt x="1133" y="325"/>
                    </a:lnTo>
                    <a:lnTo>
                      <a:pt x="1182" y="316"/>
                    </a:lnTo>
                    <a:lnTo>
                      <a:pt x="1227" y="307"/>
                    </a:lnTo>
                    <a:lnTo>
                      <a:pt x="1268" y="296"/>
                    </a:lnTo>
                    <a:lnTo>
                      <a:pt x="1305" y="284"/>
                    </a:lnTo>
                    <a:lnTo>
                      <a:pt x="1339" y="270"/>
                    </a:lnTo>
                    <a:lnTo>
                      <a:pt x="1370" y="254"/>
                    </a:lnTo>
                    <a:lnTo>
                      <a:pt x="1396" y="237"/>
                    </a:lnTo>
                    <a:lnTo>
                      <a:pt x="1419" y="221"/>
                    </a:lnTo>
                    <a:lnTo>
                      <a:pt x="1438" y="201"/>
                    </a:lnTo>
                    <a:lnTo>
                      <a:pt x="1455" y="179"/>
                    </a:lnTo>
                    <a:lnTo>
                      <a:pt x="1456" y="177"/>
                    </a:lnTo>
                    <a:lnTo>
                      <a:pt x="1456" y="176"/>
                    </a:lnTo>
                    <a:lnTo>
                      <a:pt x="1461" y="167"/>
                    </a:lnTo>
                    <a:lnTo>
                      <a:pt x="1469" y="145"/>
                    </a:lnTo>
                    <a:lnTo>
                      <a:pt x="1476" y="116"/>
                    </a:lnTo>
                    <a:lnTo>
                      <a:pt x="1478" y="80"/>
                    </a:lnTo>
                    <a:lnTo>
                      <a:pt x="1476" y="62"/>
                    </a:lnTo>
                    <a:lnTo>
                      <a:pt x="1472" y="42"/>
                    </a:lnTo>
                    <a:lnTo>
                      <a:pt x="1463" y="22"/>
                    </a:lnTo>
                    <a:lnTo>
                      <a:pt x="1450" y="3"/>
                    </a:lnTo>
                    <a:lnTo>
                      <a:pt x="1398" y="46"/>
                    </a:lnTo>
                    <a:lnTo>
                      <a:pt x="1404" y="56"/>
                    </a:lnTo>
                    <a:lnTo>
                      <a:pt x="1409" y="66"/>
                    </a:lnTo>
                    <a:lnTo>
                      <a:pt x="1412" y="77"/>
                    </a:lnTo>
                    <a:lnTo>
                      <a:pt x="1412" y="88"/>
                    </a:lnTo>
                    <a:lnTo>
                      <a:pt x="1410" y="107"/>
                    </a:lnTo>
                    <a:lnTo>
                      <a:pt x="1406" y="122"/>
                    </a:lnTo>
                    <a:lnTo>
                      <a:pt x="1401" y="134"/>
                    </a:lnTo>
                    <a:lnTo>
                      <a:pt x="1398" y="142"/>
                    </a:lnTo>
                    <a:lnTo>
                      <a:pt x="1384" y="159"/>
                    </a:lnTo>
                    <a:lnTo>
                      <a:pt x="1367" y="176"/>
                    </a:lnTo>
                    <a:lnTo>
                      <a:pt x="1347" y="190"/>
                    </a:lnTo>
                    <a:lnTo>
                      <a:pt x="1322" y="204"/>
                    </a:lnTo>
                    <a:lnTo>
                      <a:pt x="1296" y="216"/>
                    </a:lnTo>
                    <a:lnTo>
                      <a:pt x="1265" y="227"/>
                    </a:lnTo>
                    <a:lnTo>
                      <a:pt x="1230" y="237"/>
                    </a:lnTo>
                    <a:lnTo>
                      <a:pt x="1191" y="247"/>
                    </a:lnTo>
                    <a:lnTo>
                      <a:pt x="1150" y="254"/>
                    </a:lnTo>
                    <a:lnTo>
                      <a:pt x="1104" y="261"/>
                    </a:lnTo>
                    <a:lnTo>
                      <a:pt x="1054" y="267"/>
                    </a:lnTo>
                    <a:lnTo>
                      <a:pt x="1000" y="271"/>
                    </a:lnTo>
                    <a:lnTo>
                      <a:pt x="942" y="274"/>
                    </a:lnTo>
                    <a:lnTo>
                      <a:pt x="880" y="278"/>
                    </a:lnTo>
                    <a:lnTo>
                      <a:pt x="814" y="279"/>
                    </a:lnTo>
                    <a:lnTo>
                      <a:pt x="743" y="279"/>
                    </a:lnTo>
                    <a:lnTo>
                      <a:pt x="663" y="278"/>
                    </a:lnTo>
                    <a:lnTo>
                      <a:pt x="590" y="274"/>
                    </a:lnTo>
                    <a:lnTo>
                      <a:pt x="523" y="270"/>
                    </a:lnTo>
                    <a:lnTo>
                      <a:pt x="461" y="264"/>
                    </a:lnTo>
                    <a:lnTo>
                      <a:pt x="405" y="256"/>
                    </a:lnTo>
                    <a:lnTo>
                      <a:pt x="355" y="248"/>
                    </a:lnTo>
                    <a:lnTo>
                      <a:pt x="310" y="237"/>
                    </a:lnTo>
                    <a:lnTo>
                      <a:pt x="268" y="228"/>
                    </a:lnTo>
                    <a:lnTo>
                      <a:pt x="233" y="216"/>
                    </a:lnTo>
                    <a:lnTo>
                      <a:pt x="200" y="205"/>
                    </a:lnTo>
                    <a:lnTo>
                      <a:pt x="173" y="193"/>
                    </a:lnTo>
                    <a:lnTo>
                      <a:pt x="148" y="180"/>
                    </a:lnTo>
                    <a:lnTo>
                      <a:pt x="128" y="170"/>
                    </a:lnTo>
                    <a:lnTo>
                      <a:pt x="110" y="157"/>
                    </a:lnTo>
                    <a:lnTo>
                      <a:pt x="96" y="147"/>
                    </a:lnTo>
                    <a:lnTo>
                      <a:pt x="83" y="136"/>
                    </a:lnTo>
                    <a:lnTo>
                      <a:pt x="79" y="131"/>
                    </a:lnTo>
                    <a:lnTo>
                      <a:pt x="74" y="122"/>
                    </a:lnTo>
                    <a:lnTo>
                      <a:pt x="69" y="110"/>
                    </a:lnTo>
                    <a:lnTo>
                      <a:pt x="68" y="94"/>
                    </a:lnTo>
                    <a:lnTo>
                      <a:pt x="69" y="82"/>
                    </a:lnTo>
                    <a:lnTo>
                      <a:pt x="73" y="70"/>
                    </a:lnTo>
                    <a:lnTo>
                      <a:pt x="79" y="56"/>
                    </a:lnTo>
                    <a:lnTo>
                      <a:pt x="88" y="40"/>
                    </a:lnTo>
                    <a:lnTo>
                      <a:pt x="34" y="0"/>
                    </a:lnTo>
                    <a:lnTo>
                      <a:pt x="16" y="30"/>
                    </a:lnTo>
                    <a:lnTo>
                      <a:pt x="5" y="59"/>
                    </a:lnTo>
                    <a:lnTo>
                      <a:pt x="0" y="87"/>
                    </a:lnTo>
                    <a:lnTo>
                      <a:pt x="2" y="111"/>
                    </a:lnTo>
                    <a:lnTo>
                      <a:pt x="6" y="134"/>
                    </a:lnTo>
                    <a:lnTo>
                      <a:pt x="14" y="154"/>
                    </a:lnTo>
                    <a:lnTo>
                      <a:pt x="23" y="171"/>
                    </a:lnTo>
                    <a:lnTo>
                      <a:pt x="34" y="184"/>
                    </a:lnTo>
                    <a:close/>
                  </a:path>
                </a:pathLst>
              </a:custGeom>
              <a:solidFill>
                <a:srgbClr val="e29e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Freeform 25"/>
              <p:cNvSpPr/>
              <p:nvPr/>
            </p:nvSpPr>
            <p:spPr>
              <a:xfrm>
                <a:off x="6922800" y="3516120"/>
                <a:ext cx="1033200" cy="138240"/>
              </a:xfrm>
              <a:custGeom>
                <a:avLst/>
                <a:gdLst>
                  <a:gd name="textAreaLeft" fmla="*/ 0 w 1033200"/>
                  <a:gd name="textAreaRight" fmla="*/ 1033560 w 1033200"/>
                  <a:gd name="textAreaTop" fmla="*/ 0 h 138240"/>
                  <a:gd name="textAreaBottom" fmla="*/ 138600 h 138240"/>
                </a:gdLst>
                <a:ahLst/>
                <a:rect l="textAreaLeft" t="textAreaTop" r="textAreaRight" b="textAreaBottom"/>
                <a:pathLst>
                  <a:path w="1303" h="176">
                    <a:moveTo>
                      <a:pt x="0" y="150"/>
                    </a:moveTo>
                    <a:lnTo>
                      <a:pt x="62" y="176"/>
                    </a:lnTo>
                    <a:lnTo>
                      <a:pt x="67" y="170"/>
                    </a:lnTo>
                    <a:lnTo>
                      <a:pt x="74" y="162"/>
                    </a:lnTo>
                    <a:lnTo>
                      <a:pt x="85" y="154"/>
                    </a:lnTo>
                    <a:lnTo>
                      <a:pt x="101" y="147"/>
                    </a:lnTo>
                    <a:lnTo>
                      <a:pt x="121" y="137"/>
                    </a:lnTo>
                    <a:lnTo>
                      <a:pt x="144" y="128"/>
                    </a:lnTo>
                    <a:lnTo>
                      <a:pt x="170" y="119"/>
                    </a:lnTo>
                    <a:lnTo>
                      <a:pt x="202" y="110"/>
                    </a:lnTo>
                    <a:lnTo>
                      <a:pt x="239" y="100"/>
                    </a:lnTo>
                    <a:lnTo>
                      <a:pt x="279" y="93"/>
                    </a:lnTo>
                    <a:lnTo>
                      <a:pt x="326" y="85"/>
                    </a:lnTo>
                    <a:lnTo>
                      <a:pt x="376" y="79"/>
                    </a:lnTo>
                    <a:lnTo>
                      <a:pt x="432" y="74"/>
                    </a:lnTo>
                    <a:lnTo>
                      <a:pt x="492" y="70"/>
                    </a:lnTo>
                    <a:lnTo>
                      <a:pt x="558" y="66"/>
                    </a:lnTo>
                    <a:lnTo>
                      <a:pt x="631" y="66"/>
                    </a:lnTo>
                    <a:lnTo>
                      <a:pt x="723" y="68"/>
                    </a:lnTo>
                    <a:lnTo>
                      <a:pt x="805" y="73"/>
                    </a:lnTo>
                    <a:lnTo>
                      <a:pt x="879" y="77"/>
                    </a:lnTo>
                    <a:lnTo>
                      <a:pt x="945" y="83"/>
                    </a:lnTo>
                    <a:lnTo>
                      <a:pt x="1004" y="91"/>
                    </a:lnTo>
                    <a:lnTo>
                      <a:pt x="1055" y="99"/>
                    </a:lnTo>
                    <a:lnTo>
                      <a:pt x="1099" y="108"/>
                    </a:lnTo>
                    <a:lnTo>
                      <a:pt x="1136" y="117"/>
                    </a:lnTo>
                    <a:lnTo>
                      <a:pt x="1167" y="125"/>
                    </a:lnTo>
                    <a:lnTo>
                      <a:pt x="1193" y="134"/>
                    </a:lnTo>
                    <a:lnTo>
                      <a:pt x="1215" y="142"/>
                    </a:lnTo>
                    <a:lnTo>
                      <a:pt x="1230" y="150"/>
                    </a:lnTo>
                    <a:lnTo>
                      <a:pt x="1243" y="154"/>
                    </a:lnTo>
                    <a:lnTo>
                      <a:pt x="1250" y="159"/>
                    </a:lnTo>
                    <a:lnTo>
                      <a:pt x="1255" y="162"/>
                    </a:lnTo>
                    <a:lnTo>
                      <a:pt x="1256" y="164"/>
                    </a:lnTo>
                    <a:lnTo>
                      <a:pt x="1255" y="164"/>
                    </a:lnTo>
                    <a:lnTo>
                      <a:pt x="1303" y="116"/>
                    </a:lnTo>
                    <a:lnTo>
                      <a:pt x="1300" y="113"/>
                    </a:lnTo>
                    <a:lnTo>
                      <a:pt x="1293" y="108"/>
                    </a:lnTo>
                    <a:lnTo>
                      <a:pt x="1284" y="100"/>
                    </a:lnTo>
                    <a:lnTo>
                      <a:pt x="1270" y="93"/>
                    </a:lnTo>
                    <a:lnTo>
                      <a:pt x="1252" y="83"/>
                    </a:lnTo>
                    <a:lnTo>
                      <a:pt x="1230" y="74"/>
                    </a:lnTo>
                    <a:lnTo>
                      <a:pt x="1201" y="65"/>
                    </a:lnTo>
                    <a:lnTo>
                      <a:pt x="1169" y="54"/>
                    </a:lnTo>
                    <a:lnTo>
                      <a:pt x="1128" y="45"/>
                    </a:lnTo>
                    <a:lnTo>
                      <a:pt x="1081" y="34"/>
                    </a:lnTo>
                    <a:lnTo>
                      <a:pt x="1027" y="26"/>
                    </a:lnTo>
                    <a:lnTo>
                      <a:pt x="965" y="17"/>
                    </a:lnTo>
                    <a:lnTo>
                      <a:pt x="894" y="11"/>
                    </a:lnTo>
                    <a:lnTo>
                      <a:pt x="816" y="5"/>
                    </a:lnTo>
                    <a:lnTo>
                      <a:pt x="728" y="2"/>
                    </a:lnTo>
                    <a:lnTo>
                      <a:pt x="631" y="0"/>
                    </a:lnTo>
                    <a:lnTo>
                      <a:pt x="560" y="0"/>
                    </a:lnTo>
                    <a:lnTo>
                      <a:pt x="494" y="3"/>
                    </a:lnTo>
                    <a:lnTo>
                      <a:pt x="430" y="6"/>
                    </a:lnTo>
                    <a:lnTo>
                      <a:pt x="373" y="13"/>
                    </a:lnTo>
                    <a:lnTo>
                      <a:pt x="319" y="19"/>
                    </a:lnTo>
                    <a:lnTo>
                      <a:pt x="269" y="26"/>
                    </a:lnTo>
                    <a:lnTo>
                      <a:pt x="222" y="36"/>
                    </a:lnTo>
                    <a:lnTo>
                      <a:pt x="182" y="46"/>
                    </a:lnTo>
                    <a:lnTo>
                      <a:pt x="144" y="57"/>
                    </a:lnTo>
                    <a:lnTo>
                      <a:pt x="111" y="70"/>
                    </a:lnTo>
                    <a:lnTo>
                      <a:pt x="82" y="82"/>
                    </a:lnTo>
                    <a:lnTo>
                      <a:pt x="57" y="94"/>
                    </a:lnTo>
                    <a:lnTo>
                      <a:pt x="37" y="108"/>
                    </a:lnTo>
                    <a:lnTo>
                      <a:pt x="20" y="122"/>
                    </a:lnTo>
                    <a:lnTo>
                      <a:pt x="8" y="136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e29e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Freeform 26"/>
              <p:cNvSpPr/>
              <p:nvPr/>
            </p:nvSpPr>
            <p:spPr>
              <a:xfrm>
                <a:off x="6553080" y="2209680"/>
                <a:ext cx="196560" cy="62388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623880"/>
                  <a:gd name="textAreaBottom" fmla="*/ 624240 h 623880"/>
                </a:gdLst>
                <a:ahLst/>
                <a:rect l="textAreaLeft" t="textAreaTop" r="textAreaRight" b="textAreaBottom"/>
                <a:pathLst>
                  <a:path w="248" h="786">
                    <a:moveTo>
                      <a:pt x="68" y="116"/>
                    </a:moveTo>
                    <a:lnTo>
                      <a:pt x="71" y="96"/>
                    </a:lnTo>
                    <a:lnTo>
                      <a:pt x="76" y="80"/>
                    </a:lnTo>
                    <a:lnTo>
                      <a:pt x="85" y="71"/>
                    </a:lnTo>
                    <a:lnTo>
                      <a:pt x="92" y="68"/>
                    </a:lnTo>
                    <a:lnTo>
                      <a:pt x="156" y="68"/>
                    </a:lnTo>
                    <a:lnTo>
                      <a:pt x="163" y="71"/>
                    </a:lnTo>
                    <a:lnTo>
                      <a:pt x="173" y="80"/>
                    </a:lnTo>
                    <a:lnTo>
                      <a:pt x="177" y="96"/>
                    </a:lnTo>
                    <a:lnTo>
                      <a:pt x="180" y="116"/>
                    </a:lnTo>
                    <a:lnTo>
                      <a:pt x="180" y="781"/>
                    </a:lnTo>
                    <a:lnTo>
                      <a:pt x="248" y="786"/>
                    </a:lnTo>
                    <a:lnTo>
                      <a:pt x="248" y="116"/>
                    </a:lnTo>
                    <a:lnTo>
                      <a:pt x="247" y="92"/>
                    </a:lnTo>
                    <a:lnTo>
                      <a:pt x="240" y="71"/>
                    </a:lnTo>
                    <a:lnTo>
                      <a:pt x="233" y="51"/>
                    </a:lnTo>
                    <a:lnTo>
                      <a:pt x="222" y="34"/>
                    </a:lnTo>
                    <a:lnTo>
                      <a:pt x="208" y="20"/>
                    </a:lnTo>
                    <a:lnTo>
                      <a:pt x="193" y="9"/>
                    </a:lnTo>
                    <a:lnTo>
                      <a:pt x="174" y="2"/>
                    </a:lnTo>
                    <a:lnTo>
                      <a:pt x="156" y="0"/>
                    </a:lnTo>
                    <a:lnTo>
                      <a:pt x="92" y="0"/>
                    </a:lnTo>
                    <a:lnTo>
                      <a:pt x="74" y="2"/>
                    </a:lnTo>
                    <a:lnTo>
                      <a:pt x="55" y="9"/>
                    </a:lnTo>
                    <a:lnTo>
                      <a:pt x="40" y="20"/>
                    </a:lnTo>
                    <a:lnTo>
                      <a:pt x="26" y="34"/>
                    </a:lnTo>
                    <a:lnTo>
                      <a:pt x="15" y="51"/>
                    </a:lnTo>
                    <a:lnTo>
                      <a:pt x="8" y="71"/>
                    </a:lnTo>
                    <a:lnTo>
                      <a:pt x="2" y="92"/>
                    </a:lnTo>
                    <a:lnTo>
                      <a:pt x="0" y="116"/>
                    </a:lnTo>
                    <a:lnTo>
                      <a:pt x="0" y="772"/>
                    </a:lnTo>
                    <a:lnTo>
                      <a:pt x="68" y="775"/>
                    </a:lnTo>
                    <a:lnTo>
                      <a:pt x="68" y="116"/>
                    </a:lnTo>
                    <a:close/>
                  </a:path>
                </a:pathLst>
              </a:custGeom>
              <a:solidFill>
                <a:srgbClr val="e29e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Freeform 27"/>
              <p:cNvSpPr/>
              <p:nvPr/>
            </p:nvSpPr>
            <p:spPr>
              <a:xfrm>
                <a:off x="6553080" y="2822400"/>
                <a:ext cx="196560" cy="87948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879480"/>
                  <a:gd name="textAreaBottom" fmla="*/ 879840 h 879480"/>
                </a:gdLst>
                <a:ahLst/>
                <a:rect l="textAreaLeft" t="textAreaTop" r="textAreaRight" b="textAreaBottom"/>
                <a:pathLst>
                  <a:path w="248" h="1109">
                    <a:moveTo>
                      <a:pt x="180" y="9"/>
                    </a:moveTo>
                    <a:lnTo>
                      <a:pt x="180" y="995"/>
                    </a:lnTo>
                    <a:lnTo>
                      <a:pt x="177" y="1013"/>
                    </a:lnTo>
                    <a:lnTo>
                      <a:pt x="173" y="1029"/>
                    </a:lnTo>
                    <a:lnTo>
                      <a:pt x="163" y="1038"/>
                    </a:lnTo>
                    <a:lnTo>
                      <a:pt x="156" y="1041"/>
                    </a:lnTo>
                    <a:lnTo>
                      <a:pt x="92" y="1041"/>
                    </a:lnTo>
                    <a:lnTo>
                      <a:pt x="85" y="1038"/>
                    </a:lnTo>
                    <a:lnTo>
                      <a:pt x="76" y="1029"/>
                    </a:lnTo>
                    <a:lnTo>
                      <a:pt x="71" y="1013"/>
                    </a:lnTo>
                    <a:lnTo>
                      <a:pt x="68" y="995"/>
                    </a:lnTo>
                    <a:lnTo>
                      <a:pt x="68" y="3"/>
                    </a:lnTo>
                    <a:lnTo>
                      <a:pt x="0" y="0"/>
                    </a:lnTo>
                    <a:lnTo>
                      <a:pt x="0" y="995"/>
                    </a:lnTo>
                    <a:lnTo>
                      <a:pt x="2" y="1018"/>
                    </a:lnTo>
                    <a:lnTo>
                      <a:pt x="8" y="1040"/>
                    </a:lnTo>
                    <a:lnTo>
                      <a:pt x="15" y="1058"/>
                    </a:lnTo>
                    <a:lnTo>
                      <a:pt x="26" y="1075"/>
                    </a:lnTo>
                    <a:lnTo>
                      <a:pt x="40" y="1089"/>
                    </a:lnTo>
                    <a:lnTo>
                      <a:pt x="55" y="1100"/>
                    </a:lnTo>
                    <a:lnTo>
                      <a:pt x="74" y="1107"/>
                    </a:lnTo>
                    <a:lnTo>
                      <a:pt x="92" y="1109"/>
                    </a:lnTo>
                    <a:lnTo>
                      <a:pt x="156" y="1109"/>
                    </a:lnTo>
                    <a:lnTo>
                      <a:pt x="174" y="1107"/>
                    </a:lnTo>
                    <a:lnTo>
                      <a:pt x="193" y="1100"/>
                    </a:lnTo>
                    <a:lnTo>
                      <a:pt x="208" y="1089"/>
                    </a:lnTo>
                    <a:lnTo>
                      <a:pt x="222" y="1075"/>
                    </a:lnTo>
                    <a:lnTo>
                      <a:pt x="233" y="1058"/>
                    </a:lnTo>
                    <a:lnTo>
                      <a:pt x="240" y="1040"/>
                    </a:lnTo>
                    <a:lnTo>
                      <a:pt x="247" y="1018"/>
                    </a:lnTo>
                    <a:lnTo>
                      <a:pt x="248" y="995"/>
                    </a:lnTo>
                    <a:lnTo>
                      <a:pt x="248" y="14"/>
                    </a:lnTo>
                    <a:lnTo>
                      <a:pt x="180" y="9"/>
                    </a:lnTo>
                    <a:close/>
                  </a:path>
                </a:pathLst>
              </a:custGeom>
              <a:solidFill>
                <a:srgbClr val="e29e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Freeform 28"/>
              <p:cNvSpPr/>
              <p:nvPr/>
            </p:nvSpPr>
            <p:spPr>
              <a:xfrm>
                <a:off x="6804000" y="3508200"/>
                <a:ext cx="158400" cy="144360"/>
              </a:xfrm>
              <a:custGeom>
                <a:avLst/>
                <a:gdLst>
                  <a:gd name="textAreaLeft" fmla="*/ 0 w 158400"/>
                  <a:gd name="textAreaRight" fmla="*/ 158760 w 15840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200" h="182">
                    <a:moveTo>
                      <a:pt x="200" y="0"/>
                    </a:moveTo>
                    <a:lnTo>
                      <a:pt x="166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18" y="68"/>
                    </a:lnTo>
                    <a:lnTo>
                      <a:pt x="37" y="68"/>
                    </a:lnTo>
                    <a:lnTo>
                      <a:pt x="55" y="68"/>
                    </a:lnTo>
                    <a:lnTo>
                      <a:pt x="74" y="68"/>
                    </a:lnTo>
                    <a:lnTo>
                      <a:pt x="91" y="68"/>
                    </a:lnTo>
                    <a:lnTo>
                      <a:pt x="106" y="68"/>
                    </a:lnTo>
                    <a:lnTo>
                      <a:pt x="120" y="68"/>
                    </a:lnTo>
                    <a:lnTo>
                      <a:pt x="132" y="68"/>
                    </a:lnTo>
                    <a:lnTo>
                      <a:pt x="132" y="80"/>
                    </a:lnTo>
                    <a:lnTo>
                      <a:pt x="132" y="91"/>
                    </a:lnTo>
                    <a:lnTo>
                      <a:pt x="132" y="102"/>
                    </a:lnTo>
                    <a:lnTo>
                      <a:pt x="132" y="114"/>
                    </a:lnTo>
                    <a:lnTo>
                      <a:pt x="120" y="114"/>
                    </a:lnTo>
                    <a:lnTo>
                      <a:pt x="106" y="114"/>
                    </a:lnTo>
                    <a:lnTo>
                      <a:pt x="91" y="114"/>
                    </a:lnTo>
                    <a:lnTo>
                      <a:pt x="74" y="114"/>
                    </a:lnTo>
                    <a:lnTo>
                      <a:pt x="55" y="114"/>
                    </a:lnTo>
                    <a:lnTo>
                      <a:pt x="37" y="114"/>
                    </a:lnTo>
                    <a:lnTo>
                      <a:pt x="18" y="114"/>
                    </a:lnTo>
                    <a:lnTo>
                      <a:pt x="0" y="114"/>
                    </a:lnTo>
                    <a:lnTo>
                      <a:pt x="0" y="182"/>
                    </a:lnTo>
                    <a:lnTo>
                      <a:pt x="200" y="182"/>
                    </a:lnTo>
                    <a:lnTo>
                      <a:pt x="200" y="0"/>
                    </a:lnTo>
                    <a:close/>
                  </a:path>
                </a:pathLst>
              </a:custGeom>
              <a:solidFill>
                <a:srgbClr val="e29e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Freeform 29"/>
              <p:cNvSpPr/>
              <p:nvPr/>
            </p:nvSpPr>
            <p:spPr>
              <a:xfrm>
                <a:off x="6700680" y="3508200"/>
                <a:ext cx="102960" cy="1443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130" h="182">
                    <a:moveTo>
                      <a:pt x="68" y="114"/>
                    </a:moveTo>
                    <a:lnTo>
                      <a:pt x="68" y="102"/>
                    </a:lnTo>
                    <a:lnTo>
                      <a:pt x="68" y="91"/>
                    </a:lnTo>
                    <a:lnTo>
                      <a:pt x="68" y="80"/>
                    </a:lnTo>
                    <a:lnTo>
                      <a:pt x="68" y="68"/>
                    </a:lnTo>
                    <a:lnTo>
                      <a:pt x="74" y="68"/>
                    </a:lnTo>
                    <a:lnTo>
                      <a:pt x="81" y="68"/>
                    </a:lnTo>
                    <a:lnTo>
                      <a:pt x="87" y="68"/>
                    </a:lnTo>
                    <a:lnTo>
                      <a:pt x="94" y="68"/>
                    </a:lnTo>
                    <a:lnTo>
                      <a:pt x="104" y="68"/>
                    </a:lnTo>
                    <a:lnTo>
                      <a:pt x="111" y="68"/>
                    </a:lnTo>
                    <a:lnTo>
                      <a:pt x="121" y="68"/>
                    </a:lnTo>
                    <a:lnTo>
                      <a:pt x="130" y="68"/>
                    </a:lnTo>
                    <a:lnTo>
                      <a:pt x="130" y="0"/>
                    </a:lnTo>
                    <a:lnTo>
                      <a:pt x="0" y="0"/>
                    </a:lnTo>
                    <a:lnTo>
                      <a:pt x="0" y="182"/>
                    </a:lnTo>
                    <a:lnTo>
                      <a:pt x="130" y="182"/>
                    </a:lnTo>
                    <a:lnTo>
                      <a:pt x="130" y="114"/>
                    </a:lnTo>
                    <a:lnTo>
                      <a:pt x="121" y="114"/>
                    </a:lnTo>
                    <a:lnTo>
                      <a:pt x="111" y="114"/>
                    </a:lnTo>
                    <a:lnTo>
                      <a:pt x="104" y="114"/>
                    </a:lnTo>
                    <a:lnTo>
                      <a:pt x="94" y="114"/>
                    </a:lnTo>
                    <a:lnTo>
                      <a:pt x="87" y="114"/>
                    </a:lnTo>
                    <a:lnTo>
                      <a:pt x="81" y="114"/>
                    </a:lnTo>
                    <a:lnTo>
                      <a:pt x="74" y="114"/>
                    </a:lnTo>
                    <a:lnTo>
                      <a:pt x="68" y="114"/>
                    </a:lnTo>
                    <a:close/>
                  </a:path>
                </a:pathLst>
              </a:custGeom>
              <a:solidFill>
                <a:srgbClr val="e29e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Freeform 30"/>
              <p:cNvSpPr/>
              <p:nvPr/>
            </p:nvSpPr>
            <p:spPr>
              <a:xfrm>
                <a:off x="7162560" y="4267080"/>
                <a:ext cx="156960" cy="44604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446040"/>
                  <a:gd name="textAreaBottom" fmla="*/ 446400 h 446040"/>
                </a:gdLst>
                <a:ahLst/>
                <a:rect l="textAreaLeft" t="textAreaTop" r="textAreaRight" b="textAreaBottom"/>
                <a:pathLst>
                  <a:path w="199" h="562">
                    <a:moveTo>
                      <a:pt x="0" y="39"/>
                    </a:moveTo>
                    <a:lnTo>
                      <a:pt x="4" y="48"/>
                    </a:lnTo>
                    <a:lnTo>
                      <a:pt x="18" y="72"/>
                    </a:lnTo>
                    <a:lnTo>
                      <a:pt x="38" y="114"/>
                    </a:lnTo>
                    <a:lnTo>
                      <a:pt x="60" y="171"/>
                    </a:lnTo>
                    <a:lnTo>
                      <a:pt x="83" y="243"/>
                    </a:lnTo>
                    <a:lnTo>
                      <a:pt x="105" y="333"/>
                    </a:lnTo>
                    <a:lnTo>
                      <a:pt x="122" y="439"/>
                    </a:lnTo>
                    <a:lnTo>
                      <a:pt x="132" y="562"/>
                    </a:lnTo>
                    <a:lnTo>
                      <a:pt x="199" y="559"/>
                    </a:lnTo>
                    <a:lnTo>
                      <a:pt x="188" y="428"/>
                    </a:lnTo>
                    <a:lnTo>
                      <a:pt x="169" y="316"/>
                    </a:lnTo>
                    <a:lnTo>
                      <a:pt x="148" y="222"/>
                    </a:lnTo>
                    <a:lnTo>
                      <a:pt x="123" y="143"/>
                    </a:lnTo>
                    <a:lnTo>
                      <a:pt x="98" y="83"/>
                    </a:lnTo>
                    <a:lnTo>
                      <a:pt x="77" y="39"/>
                    </a:lnTo>
                    <a:lnTo>
                      <a:pt x="61" y="11"/>
                    </a:lnTo>
                    <a:lnTo>
                      <a:pt x="55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a3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Freeform 31"/>
              <p:cNvSpPr/>
              <p:nvPr/>
            </p:nvSpPr>
            <p:spPr>
              <a:xfrm>
                <a:off x="7467480" y="4267080"/>
                <a:ext cx="114120" cy="45396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143" h="571">
                    <a:moveTo>
                      <a:pt x="0" y="32"/>
                    </a:moveTo>
                    <a:lnTo>
                      <a:pt x="4" y="41"/>
                    </a:lnTo>
                    <a:lnTo>
                      <a:pt x="14" y="68"/>
                    </a:lnTo>
                    <a:lnTo>
                      <a:pt x="29" y="109"/>
                    </a:lnTo>
                    <a:lnTo>
                      <a:pt x="45" y="169"/>
                    </a:lnTo>
                    <a:lnTo>
                      <a:pt x="60" y="245"/>
                    </a:lnTo>
                    <a:lnTo>
                      <a:pt x="71" y="336"/>
                    </a:lnTo>
                    <a:lnTo>
                      <a:pt x="75" y="444"/>
                    </a:lnTo>
                    <a:lnTo>
                      <a:pt x="72" y="567"/>
                    </a:lnTo>
                    <a:lnTo>
                      <a:pt x="140" y="571"/>
                    </a:lnTo>
                    <a:lnTo>
                      <a:pt x="143" y="440"/>
                    </a:lnTo>
                    <a:lnTo>
                      <a:pt x="139" y="326"/>
                    </a:lnTo>
                    <a:lnTo>
                      <a:pt x="126" y="229"/>
                    </a:lnTo>
                    <a:lnTo>
                      <a:pt x="111" y="149"/>
                    </a:lnTo>
                    <a:lnTo>
                      <a:pt x="92" y="86"/>
                    </a:lnTo>
                    <a:lnTo>
                      <a:pt x="77" y="40"/>
                    </a:lnTo>
                    <a:lnTo>
                      <a:pt x="65" y="11"/>
                    </a:lnTo>
                    <a:lnTo>
                      <a:pt x="58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a3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Freeform 32"/>
              <p:cNvSpPr/>
              <p:nvPr/>
            </p:nvSpPr>
            <p:spPr>
              <a:xfrm>
                <a:off x="6873840" y="3438360"/>
                <a:ext cx="966240" cy="293760"/>
              </a:xfrm>
              <a:custGeom>
                <a:avLst/>
                <a:gdLst>
                  <a:gd name="textAreaLeft" fmla="*/ 0 w 966240"/>
                  <a:gd name="textAreaRight" fmla="*/ 966240 w 96624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1217" h="370">
                    <a:moveTo>
                      <a:pt x="1049" y="282"/>
                    </a:moveTo>
                    <a:lnTo>
                      <a:pt x="1031" y="285"/>
                    </a:lnTo>
                    <a:lnTo>
                      <a:pt x="1011" y="287"/>
                    </a:lnTo>
                    <a:lnTo>
                      <a:pt x="992" y="290"/>
                    </a:lnTo>
                    <a:lnTo>
                      <a:pt x="972" y="291"/>
                    </a:lnTo>
                    <a:lnTo>
                      <a:pt x="952" y="293"/>
                    </a:lnTo>
                    <a:lnTo>
                      <a:pt x="932" y="294"/>
                    </a:lnTo>
                    <a:lnTo>
                      <a:pt x="911" y="296"/>
                    </a:lnTo>
                    <a:lnTo>
                      <a:pt x="891" y="298"/>
                    </a:lnTo>
                    <a:lnTo>
                      <a:pt x="869" y="299"/>
                    </a:lnTo>
                    <a:lnTo>
                      <a:pt x="849" y="299"/>
                    </a:lnTo>
                    <a:lnTo>
                      <a:pt x="827" y="301"/>
                    </a:lnTo>
                    <a:lnTo>
                      <a:pt x="806" y="301"/>
                    </a:lnTo>
                    <a:lnTo>
                      <a:pt x="784" y="302"/>
                    </a:lnTo>
                    <a:lnTo>
                      <a:pt x="763" y="302"/>
                    </a:lnTo>
                    <a:lnTo>
                      <a:pt x="739" y="302"/>
                    </a:lnTo>
                    <a:lnTo>
                      <a:pt x="718" y="302"/>
                    </a:lnTo>
                    <a:lnTo>
                      <a:pt x="684" y="302"/>
                    </a:lnTo>
                    <a:lnTo>
                      <a:pt x="650" y="302"/>
                    </a:lnTo>
                    <a:lnTo>
                      <a:pt x="618" y="301"/>
                    </a:lnTo>
                    <a:lnTo>
                      <a:pt x="584" y="299"/>
                    </a:lnTo>
                    <a:lnTo>
                      <a:pt x="553" y="298"/>
                    </a:lnTo>
                    <a:lnTo>
                      <a:pt x="521" y="296"/>
                    </a:lnTo>
                    <a:lnTo>
                      <a:pt x="490" y="293"/>
                    </a:lnTo>
                    <a:lnTo>
                      <a:pt x="459" y="291"/>
                    </a:lnTo>
                    <a:lnTo>
                      <a:pt x="430" y="288"/>
                    </a:lnTo>
                    <a:lnTo>
                      <a:pt x="400" y="285"/>
                    </a:lnTo>
                    <a:lnTo>
                      <a:pt x="371" y="281"/>
                    </a:lnTo>
                    <a:lnTo>
                      <a:pt x="343" y="277"/>
                    </a:lnTo>
                    <a:lnTo>
                      <a:pt x="317" y="273"/>
                    </a:lnTo>
                    <a:lnTo>
                      <a:pt x="291" y="268"/>
                    </a:lnTo>
                    <a:lnTo>
                      <a:pt x="266" y="264"/>
                    </a:lnTo>
                    <a:lnTo>
                      <a:pt x="242" y="259"/>
                    </a:lnTo>
                    <a:lnTo>
                      <a:pt x="192" y="247"/>
                    </a:lnTo>
                    <a:lnTo>
                      <a:pt x="154" y="234"/>
                    </a:lnTo>
                    <a:lnTo>
                      <a:pt x="123" y="224"/>
                    </a:lnTo>
                    <a:lnTo>
                      <a:pt x="101" y="211"/>
                    </a:lnTo>
                    <a:lnTo>
                      <a:pt x="85" y="202"/>
                    </a:lnTo>
                    <a:lnTo>
                      <a:pt x="75" y="194"/>
                    </a:lnTo>
                    <a:lnTo>
                      <a:pt x="69" y="188"/>
                    </a:lnTo>
                    <a:lnTo>
                      <a:pt x="68" y="184"/>
                    </a:lnTo>
                    <a:lnTo>
                      <a:pt x="69" y="179"/>
                    </a:lnTo>
                    <a:lnTo>
                      <a:pt x="75" y="173"/>
                    </a:lnTo>
                    <a:lnTo>
                      <a:pt x="85" y="165"/>
                    </a:lnTo>
                    <a:lnTo>
                      <a:pt x="101" y="154"/>
                    </a:lnTo>
                    <a:lnTo>
                      <a:pt x="123" y="143"/>
                    </a:lnTo>
                    <a:lnTo>
                      <a:pt x="154" y="133"/>
                    </a:lnTo>
                    <a:lnTo>
                      <a:pt x="192" y="120"/>
                    </a:lnTo>
                    <a:lnTo>
                      <a:pt x="242" y="108"/>
                    </a:lnTo>
                    <a:lnTo>
                      <a:pt x="262" y="103"/>
                    </a:lnTo>
                    <a:lnTo>
                      <a:pt x="283" y="100"/>
                    </a:lnTo>
                    <a:lnTo>
                      <a:pt x="305" y="96"/>
                    </a:lnTo>
                    <a:lnTo>
                      <a:pt x="328" y="93"/>
                    </a:lnTo>
                    <a:lnTo>
                      <a:pt x="351" y="88"/>
                    </a:lnTo>
                    <a:lnTo>
                      <a:pt x="374" y="85"/>
                    </a:lnTo>
                    <a:lnTo>
                      <a:pt x="399" y="82"/>
                    </a:lnTo>
                    <a:lnTo>
                      <a:pt x="424" y="80"/>
                    </a:lnTo>
                    <a:lnTo>
                      <a:pt x="450" y="77"/>
                    </a:lnTo>
                    <a:lnTo>
                      <a:pt x="474" y="74"/>
                    </a:lnTo>
                    <a:lnTo>
                      <a:pt x="501" y="73"/>
                    </a:lnTo>
                    <a:lnTo>
                      <a:pt x="527" y="71"/>
                    </a:lnTo>
                    <a:lnTo>
                      <a:pt x="555" y="70"/>
                    </a:lnTo>
                    <a:lnTo>
                      <a:pt x="581" y="68"/>
                    </a:lnTo>
                    <a:lnTo>
                      <a:pt x="608" y="66"/>
                    </a:lnTo>
                    <a:lnTo>
                      <a:pt x="636" y="66"/>
                    </a:lnTo>
                    <a:lnTo>
                      <a:pt x="630" y="59"/>
                    </a:lnTo>
                    <a:lnTo>
                      <a:pt x="622" y="49"/>
                    </a:lnTo>
                    <a:lnTo>
                      <a:pt x="616" y="42"/>
                    </a:lnTo>
                    <a:lnTo>
                      <a:pt x="610" y="34"/>
                    </a:lnTo>
                    <a:lnTo>
                      <a:pt x="604" y="26"/>
                    </a:lnTo>
                    <a:lnTo>
                      <a:pt x="599" y="17"/>
                    </a:lnTo>
                    <a:lnTo>
                      <a:pt x="593" y="9"/>
                    </a:lnTo>
                    <a:lnTo>
                      <a:pt x="588" y="0"/>
                    </a:lnTo>
                    <a:lnTo>
                      <a:pt x="541" y="3"/>
                    </a:lnTo>
                    <a:lnTo>
                      <a:pt x="491" y="6"/>
                    </a:lnTo>
                    <a:lnTo>
                      <a:pt x="441" y="11"/>
                    </a:lnTo>
                    <a:lnTo>
                      <a:pt x="390" y="17"/>
                    </a:lnTo>
                    <a:lnTo>
                      <a:pt x="340" y="23"/>
                    </a:lnTo>
                    <a:lnTo>
                      <a:pt x="291" y="31"/>
                    </a:lnTo>
                    <a:lnTo>
                      <a:pt x="245" y="40"/>
                    </a:lnTo>
                    <a:lnTo>
                      <a:pt x="200" y="49"/>
                    </a:lnTo>
                    <a:lnTo>
                      <a:pt x="157" y="62"/>
                    </a:lnTo>
                    <a:lnTo>
                      <a:pt x="120" y="74"/>
                    </a:lnTo>
                    <a:lnTo>
                      <a:pt x="86" y="88"/>
                    </a:lnTo>
                    <a:lnTo>
                      <a:pt x="57" y="103"/>
                    </a:lnTo>
                    <a:lnTo>
                      <a:pt x="32" y="122"/>
                    </a:lnTo>
                    <a:lnTo>
                      <a:pt x="15" y="140"/>
                    </a:lnTo>
                    <a:lnTo>
                      <a:pt x="3" y="160"/>
                    </a:lnTo>
                    <a:lnTo>
                      <a:pt x="0" y="184"/>
                    </a:lnTo>
                    <a:lnTo>
                      <a:pt x="4" y="210"/>
                    </a:lnTo>
                    <a:lnTo>
                      <a:pt x="20" y="234"/>
                    </a:lnTo>
                    <a:lnTo>
                      <a:pt x="44" y="256"/>
                    </a:lnTo>
                    <a:lnTo>
                      <a:pt x="77" y="274"/>
                    </a:lnTo>
                    <a:lnTo>
                      <a:pt x="117" y="293"/>
                    </a:lnTo>
                    <a:lnTo>
                      <a:pt x="162" y="307"/>
                    </a:lnTo>
                    <a:lnTo>
                      <a:pt x="212" y="321"/>
                    </a:lnTo>
                    <a:lnTo>
                      <a:pt x="266" y="331"/>
                    </a:lnTo>
                    <a:lnTo>
                      <a:pt x="323" y="342"/>
                    </a:lnTo>
                    <a:lnTo>
                      <a:pt x="382" y="350"/>
                    </a:lnTo>
                    <a:lnTo>
                      <a:pt x="442" y="356"/>
                    </a:lnTo>
                    <a:lnTo>
                      <a:pt x="501" y="362"/>
                    </a:lnTo>
                    <a:lnTo>
                      <a:pt x="559" y="365"/>
                    </a:lnTo>
                    <a:lnTo>
                      <a:pt x="616" y="368"/>
                    </a:lnTo>
                    <a:lnTo>
                      <a:pt x="669" y="370"/>
                    </a:lnTo>
                    <a:lnTo>
                      <a:pt x="718" y="370"/>
                    </a:lnTo>
                    <a:lnTo>
                      <a:pt x="744" y="370"/>
                    </a:lnTo>
                    <a:lnTo>
                      <a:pt x="772" y="370"/>
                    </a:lnTo>
                    <a:lnTo>
                      <a:pt x="801" y="368"/>
                    </a:lnTo>
                    <a:lnTo>
                      <a:pt x="832" y="367"/>
                    </a:lnTo>
                    <a:lnTo>
                      <a:pt x="863" y="365"/>
                    </a:lnTo>
                    <a:lnTo>
                      <a:pt x="895" y="364"/>
                    </a:lnTo>
                    <a:lnTo>
                      <a:pt x="927" y="362"/>
                    </a:lnTo>
                    <a:lnTo>
                      <a:pt x="961" y="359"/>
                    </a:lnTo>
                    <a:lnTo>
                      <a:pt x="994" y="356"/>
                    </a:lnTo>
                    <a:lnTo>
                      <a:pt x="1028" y="353"/>
                    </a:lnTo>
                    <a:lnTo>
                      <a:pt x="1060" y="348"/>
                    </a:lnTo>
                    <a:lnTo>
                      <a:pt x="1092" y="345"/>
                    </a:lnTo>
                    <a:lnTo>
                      <a:pt x="1125" y="339"/>
                    </a:lnTo>
                    <a:lnTo>
                      <a:pt x="1157" y="334"/>
                    </a:lnTo>
                    <a:lnTo>
                      <a:pt x="1188" y="328"/>
                    </a:lnTo>
                    <a:lnTo>
                      <a:pt x="1217" y="322"/>
                    </a:lnTo>
                    <a:lnTo>
                      <a:pt x="1197" y="318"/>
                    </a:lnTo>
                    <a:lnTo>
                      <a:pt x="1176" y="314"/>
                    </a:lnTo>
                    <a:lnTo>
                      <a:pt x="1156" y="310"/>
                    </a:lnTo>
                    <a:lnTo>
                      <a:pt x="1134" y="304"/>
                    </a:lnTo>
                    <a:lnTo>
                      <a:pt x="1114" y="299"/>
                    </a:lnTo>
                    <a:lnTo>
                      <a:pt x="1092" y="294"/>
                    </a:lnTo>
                    <a:lnTo>
                      <a:pt x="1071" y="288"/>
                    </a:lnTo>
                    <a:lnTo>
                      <a:pt x="1049" y="282"/>
                    </a:lnTo>
                    <a:close/>
                  </a:path>
                </a:pathLst>
              </a:custGeom>
              <a:solidFill>
                <a:srgbClr val="e29e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Freeform 33"/>
              <p:cNvSpPr/>
              <p:nvPr/>
            </p:nvSpPr>
            <p:spPr>
              <a:xfrm>
                <a:off x="7340400" y="3436920"/>
                <a:ext cx="672840" cy="257040"/>
              </a:xfrm>
              <a:custGeom>
                <a:avLst/>
                <a:gdLst>
                  <a:gd name="textAreaLeft" fmla="*/ 0 w 672840"/>
                  <a:gd name="textAreaRight" fmla="*/ 672840 w 67284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848" h="325">
                    <a:moveTo>
                      <a:pt x="130" y="68"/>
                    </a:moveTo>
                    <a:lnTo>
                      <a:pt x="164" y="68"/>
                    </a:lnTo>
                    <a:lnTo>
                      <a:pt x="198" y="68"/>
                    </a:lnTo>
                    <a:lnTo>
                      <a:pt x="230" y="69"/>
                    </a:lnTo>
                    <a:lnTo>
                      <a:pt x="262" y="71"/>
                    </a:lnTo>
                    <a:lnTo>
                      <a:pt x="295" y="73"/>
                    </a:lnTo>
                    <a:lnTo>
                      <a:pt x="327" y="74"/>
                    </a:lnTo>
                    <a:lnTo>
                      <a:pt x="358" y="77"/>
                    </a:lnTo>
                    <a:lnTo>
                      <a:pt x="389" y="79"/>
                    </a:lnTo>
                    <a:lnTo>
                      <a:pt x="418" y="82"/>
                    </a:lnTo>
                    <a:lnTo>
                      <a:pt x="447" y="85"/>
                    </a:lnTo>
                    <a:lnTo>
                      <a:pt x="477" y="89"/>
                    </a:lnTo>
                    <a:lnTo>
                      <a:pt x="504" y="93"/>
                    </a:lnTo>
                    <a:lnTo>
                      <a:pt x="531" y="97"/>
                    </a:lnTo>
                    <a:lnTo>
                      <a:pt x="557" y="102"/>
                    </a:lnTo>
                    <a:lnTo>
                      <a:pt x="581" y="106"/>
                    </a:lnTo>
                    <a:lnTo>
                      <a:pt x="606" y="111"/>
                    </a:lnTo>
                    <a:lnTo>
                      <a:pt x="655" y="123"/>
                    </a:lnTo>
                    <a:lnTo>
                      <a:pt x="694" y="136"/>
                    </a:lnTo>
                    <a:lnTo>
                      <a:pt x="725" y="146"/>
                    </a:lnTo>
                    <a:lnTo>
                      <a:pt x="746" y="157"/>
                    </a:lnTo>
                    <a:lnTo>
                      <a:pt x="763" y="168"/>
                    </a:lnTo>
                    <a:lnTo>
                      <a:pt x="773" y="176"/>
                    </a:lnTo>
                    <a:lnTo>
                      <a:pt x="779" y="182"/>
                    </a:lnTo>
                    <a:lnTo>
                      <a:pt x="780" y="187"/>
                    </a:lnTo>
                    <a:lnTo>
                      <a:pt x="779" y="191"/>
                    </a:lnTo>
                    <a:lnTo>
                      <a:pt x="773" y="197"/>
                    </a:lnTo>
                    <a:lnTo>
                      <a:pt x="763" y="205"/>
                    </a:lnTo>
                    <a:lnTo>
                      <a:pt x="746" y="214"/>
                    </a:lnTo>
                    <a:lnTo>
                      <a:pt x="725" y="227"/>
                    </a:lnTo>
                    <a:lnTo>
                      <a:pt x="694" y="237"/>
                    </a:lnTo>
                    <a:lnTo>
                      <a:pt x="655" y="250"/>
                    </a:lnTo>
                    <a:lnTo>
                      <a:pt x="606" y="262"/>
                    </a:lnTo>
                    <a:lnTo>
                      <a:pt x="589" y="265"/>
                    </a:lnTo>
                    <a:lnTo>
                      <a:pt x="572" y="268"/>
                    </a:lnTo>
                    <a:lnTo>
                      <a:pt x="555" y="271"/>
                    </a:lnTo>
                    <a:lnTo>
                      <a:pt x="537" y="274"/>
                    </a:lnTo>
                    <a:lnTo>
                      <a:pt x="518" y="277"/>
                    </a:lnTo>
                    <a:lnTo>
                      <a:pt x="500" y="280"/>
                    </a:lnTo>
                    <a:lnTo>
                      <a:pt x="481" y="282"/>
                    </a:lnTo>
                    <a:lnTo>
                      <a:pt x="461" y="285"/>
                    </a:lnTo>
                    <a:lnTo>
                      <a:pt x="483" y="291"/>
                    </a:lnTo>
                    <a:lnTo>
                      <a:pt x="504" y="297"/>
                    </a:lnTo>
                    <a:lnTo>
                      <a:pt x="526" y="302"/>
                    </a:lnTo>
                    <a:lnTo>
                      <a:pt x="546" y="307"/>
                    </a:lnTo>
                    <a:lnTo>
                      <a:pt x="568" y="313"/>
                    </a:lnTo>
                    <a:lnTo>
                      <a:pt x="588" y="317"/>
                    </a:lnTo>
                    <a:lnTo>
                      <a:pt x="609" y="321"/>
                    </a:lnTo>
                    <a:lnTo>
                      <a:pt x="629" y="325"/>
                    </a:lnTo>
                    <a:lnTo>
                      <a:pt x="675" y="313"/>
                    </a:lnTo>
                    <a:lnTo>
                      <a:pt x="717" y="301"/>
                    </a:lnTo>
                    <a:lnTo>
                      <a:pt x="754" y="287"/>
                    </a:lnTo>
                    <a:lnTo>
                      <a:pt x="786" y="270"/>
                    </a:lnTo>
                    <a:lnTo>
                      <a:pt x="813" y="251"/>
                    </a:lnTo>
                    <a:lnTo>
                      <a:pt x="831" y="233"/>
                    </a:lnTo>
                    <a:lnTo>
                      <a:pt x="843" y="210"/>
                    </a:lnTo>
                    <a:lnTo>
                      <a:pt x="848" y="187"/>
                    </a:lnTo>
                    <a:lnTo>
                      <a:pt x="843" y="160"/>
                    </a:lnTo>
                    <a:lnTo>
                      <a:pt x="828" y="136"/>
                    </a:lnTo>
                    <a:lnTo>
                      <a:pt x="803" y="114"/>
                    </a:lnTo>
                    <a:lnTo>
                      <a:pt x="771" y="96"/>
                    </a:lnTo>
                    <a:lnTo>
                      <a:pt x="731" y="77"/>
                    </a:lnTo>
                    <a:lnTo>
                      <a:pt x="686" y="63"/>
                    </a:lnTo>
                    <a:lnTo>
                      <a:pt x="635" y="49"/>
                    </a:lnTo>
                    <a:lnTo>
                      <a:pt x="581" y="37"/>
                    </a:lnTo>
                    <a:lnTo>
                      <a:pt x="524" y="28"/>
                    </a:lnTo>
                    <a:lnTo>
                      <a:pt x="466" y="20"/>
                    </a:lnTo>
                    <a:lnTo>
                      <a:pt x="406" y="14"/>
                    </a:lnTo>
                    <a:lnTo>
                      <a:pt x="347" y="8"/>
                    </a:lnTo>
                    <a:lnTo>
                      <a:pt x="289" y="5"/>
                    </a:lnTo>
                    <a:lnTo>
                      <a:pt x="232" y="2"/>
                    </a:lnTo>
                    <a:lnTo>
                      <a:pt x="179" y="0"/>
                    </a:lnTo>
                    <a:lnTo>
                      <a:pt x="130" y="0"/>
                    </a:lnTo>
                    <a:lnTo>
                      <a:pt x="114" y="0"/>
                    </a:lnTo>
                    <a:lnTo>
                      <a:pt x="101" y="0"/>
                    </a:lnTo>
                    <a:lnTo>
                      <a:pt x="84" y="0"/>
                    </a:lnTo>
                    <a:lnTo>
                      <a:pt x="68" y="2"/>
                    </a:lnTo>
                    <a:lnTo>
                      <a:pt x="51" y="2"/>
                    </a:lnTo>
                    <a:lnTo>
                      <a:pt x="34" y="2"/>
                    </a:lnTo>
                    <a:lnTo>
                      <a:pt x="17" y="3"/>
                    </a:lnTo>
                    <a:lnTo>
                      <a:pt x="0" y="3"/>
                    </a:lnTo>
                    <a:lnTo>
                      <a:pt x="5" y="12"/>
                    </a:lnTo>
                    <a:lnTo>
                      <a:pt x="11" y="20"/>
                    </a:lnTo>
                    <a:lnTo>
                      <a:pt x="16" y="29"/>
                    </a:lnTo>
                    <a:lnTo>
                      <a:pt x="22" y="37"/>
                    </a:lnTo>
                    <a:lnTo>
                      <a:pt x="28" y="45"/>
                    </a:lnTo>
                    <a:lnTo>
                      <a:pt x="34" y="52"/>
                    </a:lnTo>
                    <a:lnTo>
                      <a:pt x="42" y="62"/>
                    </a:lnTo>
                    <a:lnTo>
                      <a:pt x="48" y="69"/>
                    </a:lnTo>
                    <a:lnTo>
                      <a:pt x="57" y="69"/>
                    </a:lnTo>
                    <a:lnTo>
                      <a:pt x="68" y="68"/>
                    </a:lnTo>
                    <a:lnTo>
                      <a:pt x="78" y="68"/>
                    </a:lnTo>
                    <a:lnTo>
                      <a:pt x="88" y="68"/>
                    </a:lnTo>
                    <a:lnTo>
                      <a:pt x="99" y="68"/>
                    </a:lnTo>
                    <a:lnTo>
                      <a:pt x="110" y="68"/>
                    </a:lnTo>
                    <a:lnTo>
                      <a:pt x="119" y="68"/>
                    </a:lnTo>
                    <a:lnTo>
                      <a:pt x="130" y="68"/>
                    </a:lnTo>
                    <a:close/>
                  </a:path>
                </a:pathLst>
              </a:custGeom>
              <a:solidFill>
                <a:srgbClr val="e29e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Freeform 34"/>
              <p:cNvSpPr/>
              <p:nvPr/>
            </p:nvSpPr>
            <p:spPr>
              <a:xfrm>
                <a:off x="7086600" y="1600200"/>
                <a:ext cx="1018800" cy="1019160"/>
              </a:xfrm>
              <a:custGeom>
                <a:avLst/>
                <a:gdLst>
                  <a:gd name="textAreaLeft" fmla="*/ 0 w 1018800"/>
                  <a:gd name="textAreaRight" fmla="*/ 1019160 w 1018800"/>
                  <a:gd name="textAreaTop" fmla="*/ 0 h 1019160"/>
                  <a:gd name="textAreaBottom" fmla="*/ 1019520 h 1019160"/>
                </a:gdLst>
                <a:ahLst/>
                <a:rect l="textAreaLeft" t="textAreaTop" r="textAreaRight" b="textAreaBottom"/>
                <a:pathLst>
                  <a:path w="1285" h="1285">
                    <a:moveTo>
                      <a:pt x="1285" y="642"/>
                    </a:moveTo>
                    <a:lnTo>
                      <a:pt x="1282" y="709"/>
                    </a:lnTo>
                    <a:lnTo>
                      <a:pt x="1273" y="772"/>
                    </a:lnTo>
                    <a:lnTo>
                      <a:pt x="1256" y="833"/>
                    </a:lnTo>
                    <a:lnTo>
                      <a:pt x="1235" y="892"/>
                    </a:lnTo>
                    <a:lnTo>
                      <a:pt x="1208" y="949"/>
                    </a:lnTo>
                    <a:lnTo>
                      <a:pt x="1176" y="1001"/>
                    </a:lnTo>
                    <a:lnTo>
                      <a:pt x="1139" y="1051"/>
                    </a:lnTo>
                    <a:lnTo>
                      <a:pt x="1097" y="1097"/>
                    </a:lnTo>
                    <a:lnTo>
                      <a:pt x="1051" y="1138"/>
                    </a:lnTo>
                    <a:lnTo>
                      <a:pt x="1002" y="1175"/>
                    </a:lnTo>
                    <a:lnTo>
                      <a:pt x="949" y="1208"/>
                    </a:lnTo>
                    <a:lnTo>
                      <a:pt x="892" y="1234"/>
                    </a:lnTo>
                    <a:lnTo>
                      <a:pt x="834" y="1255"/>
                    </a:lnTo>
                    <a:lnTo>
                      <a:pt x="772" y="1272"/>
                    </a:lnTo>
                    <a:lnTo>
                      <a:pt x="709" y="1282"/>
                    </a:lnTo>
                    <a:lnTo>
                      <a:pt x="643" y="1285"/>
                    </a:lnTo>
                    <a:lnTo>
                      <a:pt x="577" y="1282"/>
                    </a:lnTo>
                    <a:lnTo>
                      <a:pt x="513" y="1272"/>
                    </a:lnTo>
                    <a:lnTo>
                      <a:pt x="452" y="1255"/>
                    </a:lnTo>
                    <a:lnTo>
                      <a:pt x="392" y="1234"/>
                    </a:lnTo>
                    <a:lnTo>
                      <a:pt x="336" y="1208"/>
                    </a:lnTo>
                    <a:lnTo>
                      <a:pt x="284" y="1175"/>
                    </a:lnTo>
                    <a:lnTo>
                      <a:pt x="233" y="1138"/>
                    </a:lnTo>
                    <a:lnTo>
                      <a:pt x="188" y="1097"/>
                    </a:lnTo>
                    <a:lnTo>
                      <a:pt x="147" y="1051"/>
                    </a:lnTo>
                    <a:lnTo>
                      <a:pt x="110" y="1001"/>
                    </a:lnTo>
                    <a:lnTo>
                      <a:pt x="77" y="949"/>
                    </a:lnTo>
                    <a:lnTo>
                      <a:pt x="51" y="892"/>
                    </a:lnTo>
                    <a:lnTo>
                      <a:pt x="29" y="833"/>
                    </a:lnTo>
                    <a:lnTo>
                      <a:pt x="12" y="772"/>
                    </a:lnTo>
                    <a:lnTo>
                      <a:pt x="3" y="709"/>
                    </a:lnTo>
                    <a:lnTo>
                      <a:pt x="0" y="642"/>
                    </a:lnTo>
                    <a:lnTo>
                      <a:pt x="3" y="576"/>
                    </a:lnTo>
                    <a:lnTo>
                      <a:pt x="12" y="513"/>
                    </a:lnTo>
                    <a:lnTo>
                      <a:pt x="29" y="451"/>
                    </a:lnTo>
                    <a:lnTo>
                      <a:pt x="51" y="393"/>
                    </a:lnTo>
                    <a:lnTo>
                      <a:pt x="77" y="336"/>
                    </a:lnTo>
                    <a:lnTo>
                      <a:pt x="110" y="283"/>
                    </a:lnTo>
                    <a:lnTo>
                      <a:pt x="147" y="234"/>
                    </a:lnTo>
                    <a:lnTo>
                      <a:pt x="188" y="188"/>
                    </a:lnTo>
                    <a:lnTo>
                      <a:pt x="233" y="146"/>
                    </a:lnTo>
                    <a:lnTo>
                      <a:pt x="284" y="109"/>
                    </a:lnTo>
                    <a:lnTo>
                      <a:pt x="336" y="77"/>
                    </a:lnTo>
                    <a:lnTo>
                      <a:pt x="392" y="51"/>
                    </a:lnTo>
                    <a:lnTo>
                      <a:pt x="452" y="29"/>
                    </a:lnTo>
                    <a:lnTo>
                      <a:pt x="513" y="12"/>
                    </a:lnTo>
                    <a:lnTo>
                      <a:pt x="577" y="3"/>
                    </a:lnTo>
                    <a:lnTo>
                      <a:pt x="643" y="0"/>
                    </a:lnTo>
                    <a:lnTo>
                      <a:pt x="709" y="3"/>
                    </a:lnTo>
                    <a:lnTo>
                      <a:pt x="772" y="12"/>
                    </a:lnTo>
                    <a:lnTo>
                      <a:pt x="834" y="29"/>
                    </a:lnTo>
                    <a:lnTo>
                      <a:pt x="892" y="51"/>
                    </a:lnTo>
                    <a:lnTo>
                      <a:pt x="949" y="77"/>
                    </a:lnTo>
                    <a:lnTo>
                      <a:pt x="1002" y="109"/>
                    </a:lnTo>
                    <a:lnTo>
                      <a:pt x="1051" y="146"/>
                    </a:lnTo>
                    <a:lnTo>
                      <a:pt x="1097" y="188"/>
                    </a:lnTo>
                    <a:lnTo>
                      <a:pt x="1139" y="234"/>
                    </a:lnTo>
                    <a:lnTo>
                      <a:pt x="1176" y="283"/>
                    </a:lnTo>
                    <a:lnTo>
                      <a:pt x="1208" y="336"/>
                    </a:lnTo>
                    <a:lnTo>
                      <a:pt x="1235" y="393"/>
                    </a:lnTo>
                    <a:lnTo>
                      <a:pt x="1256" y="451"/>
                    </a:lnTo>
                    <a:lnTo>
                      <a:pt x="1273" y="513"/>
                    </a:lnTo>
                    <a:lnTo>
                      <a:pt x="1282" y="576"/>
                    </a:lnTo>
                    <a:lnTo>
                      <a:pt x="1285" y="642"/>
                    </a:lnTo>
                    <a:close/>
                  </a:path>
                </a:pathLst>
              </a:custGeom>
              <a:solidFill>
                <a:srgbClr val="ff87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Freeform 35"/>
              <p:cNvSpPr/>
              <p:nvPr/>
            </p:nvSpPr>
            <p:spPr>
              <a:xfrm>
                <a:off x="6858000" y="2514600"/>
                <a:ext cx="193320" cy="182520"/>
              </a:xfrm>
              <a:custGeom>
                <a:avLst/>
                <a:gdLst>
                  <a:gd name="textAreaLeft" fmla="*/ 0 w 193320"/>
                  <a:gd name="textAreaRight" fmla="*/ 193680 w 1933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43" h="231">
                    <a:moveTo>
                      <a:pt x="243" y="115"/>
                    </a:moveTo>
                    <a:lnTo>
                      <a:pt x="240" y="138"/>
                    </a:lnTo>
                    <a:lnTo>
                      <a:pt x="234" y="160"/>
                    </a:lnTo>
                    <a:lnTo>
                      <a:pt x="222" y="180"/>
                    </a:lnTo>
                    <a:lnTo>
                      <a:pt x="208" y="197"/>
                    </a:lnTo>
                    <a:lnTo>
                      <a:pt x="190" y="211"/>
                    </a:lnTo>
                    <a:lnTo>
                      <a:pt x="168" y="221"/>
                    </a:lnTo>
                    <a:lnTo>
                      <a:pt x="146" y="228"/>
                    </a:lnTo>
                    <a:lnTo>
                      <a:pt x="122" y="231"/>
                    </a:lnTo>
                    <a:lnTo>
                      <a:pt x="97" y="228"/>
                    </a:lnTo>
                    <a:lnTo>
                      <a:pt x="74" y="221"/>
                    </a:lnTo>
                    <a:lnTo>
                      <a:pt x="54" y="211"/>
                    </a:lnTo>
                    <a:lnTo>
                      <a:pt x="35" y="197"/>
                    </a:lnTo>
                    <a:lnTo>
                      <a:pt x="20" y="180"/>
                    </a:lnTo>
                    <a:lnTo>
                      <a:pt x="9" y="160"/>
                    </a:lnTo>
                    <a:lnTo>
                      <a:pt x="3" y="138"/>
                    </a:lnTo>
                    <a:lnTo>
                      <a:pt x="0" y="115"/>
                    </a:lnTo>
                    <a:lnTo>
                      <a:pt x="3" y="92"/>
                    </a:lnTo>
                    <a:lnTo>
                      <a:pt x="9" y="70"/>
                    </a:lnTo>
                    <a:lnTo>
                      <a:pt x="20" y="50"/>
                    </a:lnTo>
                    <a:lnTo>
                      <a:pt x="35" y="33"/>
                    </a:lnTo>
                    <a:lnTo>
                      <a:pt x="54" y="20"/>
                    </a:lnTo>
                    <a:lnTo>
                      <a:pt x="74" y="9"/>
                    </a:lnTo>
                    <a:lnTo>
                      <a:pt x="97" y="3"/>
                    </a:lnTo>
                    <a:lnTo>
                      <a:pt x="122" y="0"/>
                    </a:lnTo>
                    <a:lnTo>
                      <a:pt x="146" y="3"/>
                    </a:lnTo>
                    <a:lnTo>
                      <a:pt x="168" y="9"/>
                    </a:lnTo>
                    <a:lnTo>
                      <a:pt x="190" y="20"/>
                    </a:lnTo>
                    <a:lnTo>
                      <a:pt x="208" y="33"/>
                    </a:lnTo>
                    <a:lnTo>
                      <a:pt x="222" y="50"/>
                    </a:lnTo>
                    <a:lnTo>
                      <a:pt x="234" y="70"/>
                    </a:lnTo>
                    <a:lnTo>
                      <a:pt x="240" y="92"/>
                    </a:lnTo>
                    <a:lnTo>
                      <a:pt x="243" y="115"/>
                    </a:lnTo>
                    <a:close/>
                  </a:path>
                </a:pathLst>
              </a:custGeom>
              <a:solidFill>
                <a:srgbClr val="ffaa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Freeform 36"/>
              <p:cNvSpPr/>
              <p:nvPr/>
            </p:nvSpPr>
            <p:spPr>
              <a:xfrm>
                <a:off x="7848360" y="2971800"/>
                <a:ext cx="772920" cy="635040"/>
              </a:xfrm>
              <a:custGeom>
                <a:avLst/>
                <a:gdLst>
                  <a:gd name="textAreaLeft" fmla="*/ 0 w 772920"/>
                  <a:gd name="textAreaRight" fmla="*/ 773280 w 772920"/>
                  <a:gd name="textAreaTop" fmla="*/ 0 h 635040"/>
                  <a:gd name="textAreaBottom" fmla="*/ 635400 h 635040"/>
                </a:gdLst>
                <a:ahLst/>
                <a:rect l="textAreaLeft" t="textAreaTop" r="textAreaRight" b="textAreaBottom"/>
                <a:pathLst>
                  <a:path w="974" h="799">
                    <a:moveTo>
                      <a:pt x="0" y="670"/>
                    </a:moveTo>
                    <a:lnTo>
                      <a:pt x="9" y="670"/>
                    </a:lnTo>
                    <a:lnTo>
                      <a:pt x="36" y="667"/>
                    </a:lnTo>
                    <a:lnTo>
                      <a:pt x="77" y="662"/>
                    </a:lnTo>
                    <a:lnTo>
                      <a:pt x="131" y="655"/>
                    </a:lnTo>
                    <a:lnTo>
                      <a:pt x="194" y="642"/>
                    </a:lnTo>
                    <a:lnTo>
                      <a:pt x="267" y="625"/>
                    </a:lnTo>
                    <a:lnTo>
                      <a:pt x="344" y="602"/>
                    </a:lnTo>
                    <a:lnTo>
                      <a:pt x="424" y="573"/>
                    </a:lnTo>
                    <a:lnTo>
                      <a:pt x="504" y="536"/>
                    </a:lnTo>
                    <a:lnTo>
                      <a:pt x="584" y="491"/>
                    </a:lnTo>
                    <a:lnTo>
                      <a:pt x="658" y="437"/>
                    </a:lnTo>
                    <a:lnTo>
                      <a:pt x="727" y="373"/>
                    </a:lnTo>
                    <a:lnTo>
                      <a:pt x="788" y="299"/>
                    </a:lnTo>
                    <a:lnTo>
                      <a:pt x="837" y="211"/>
                    </a:lnTo>
                    <a:lnTo>
                      <a:pt x="872" y="112"/>
                    </a:lnTo>
                    <a:lnTo>
                      <a:pt x="892" y="0"/>
                    </a:lnTo>
                    <a:lnTo>
                      <a:pt x="897" y="8"/>
                    </a:lnTo>
                    <a:lnTo>
                      <a:pt x="908" y="29"/>
                    </a:lnTo>
                    <a:lnTo>
                      <a:pt x="922" y="62"/>
                    </a:lnTo>
                    <a:lnTo>
                      <a:pt x="939" y="106"/>
                    </a:lnTo>
                    <a:lnTo>
                      <a:pt x="954" y="159"/>
                    </a:lnTo>
                    <a:lnTo>
                      <a:pt x="968" y="220"/>
                    </a:lnTo>
                    <a:lnTo>
                      <a:pt x="974" y="285"/>
                    </a:lnTo>
                    <a:lnTo>
                      <a:pt x="974" y="356"/>
                    </a:lnTo>
                    <a:lnTo>
                      <a:pt x="969" y="396"/>
                    </a:lnTo>
                    <a:lnTo>
                      <a:pt x="962" y="436"/>
                    </a:lnTo>
                    <a:lnTo>
                      <a:pt x="949" y="476"/>
                    </a:lnTo>
                    <a:lnTo>
                      <a:pt x="934" y="516"/>
                    </a:lnTo>
                    <a:lnTo>
                      <a:pt x="912" y="556"/>
                    </a:lnTo>
                    <a:lnTo>
                      <a:pt x="886" y="596"/>
                    </a:lnTo>
                    <a:lnTo>
                      <a:pt x="855" y="633"/>
                    </a:lnTo>
                    <a:lnTo>
                      <a:pt x="818" y="670"/>
                    </a:lnTo>
                    <a:lnTo>
                      <a:pt x="755" y="719"/>
                    </a:lnTo>
                    <a:lnTo>
                      <a:pt x="689" y="755"/>
                    </a:lnTo>
                    <a:lnTo>
                      <a:pt x="621" y="779"/>
                    </a:lnTo>
                    <a:lnTo>
                      <a:pt x="550" y="793"/>
                    </a:lnTo>
                    <a:lnTo>
                      <a:pt x="479" y="799"/>
                    </a:lnTo>
                    <a:lnTo>
                      <a:pt x="410" y="796"/>
                    </a:lnTo>
                    <a:lnTo>
                      <a:pt x="342" y="789"/>
                    </a:lnTo>
                    <a:lnTo>
                      <a:pt x="277" y="776"/>
                    </a:lnTo>
                    <a:lnTo>
                      <a:pt x="217" y="759"/>
                    </a:lnTo>
                    <a:lnTo>
                      <a:pt x="162" y="741"/>
                    </a:lnTo>
                    <a:lnTo>
                      <a:pt x="113" y="722"/>
                    </a:lnTo>
                    <a:lnTo>
                      <a:pt x="71" y="705"/>
                    </a:lnTo>
                    <a:lnTo>
                      <a:pt x="37" y="690"/>
                    </a:lnTo>
                    <a:lnTo>
                      <a:pt x="14" y="678"/>
                    </a:lnTo>
                    <a:lnTo>
                      <a:pt x="2" y="670"/>
                    </a:lnTo>
                    <a:lnTo>
                      <a:pt x="0" y="670"/>
                    </a:lnTo>
                    <a:close/>
                  </a:path>
                </a:pathLst>
              </a:custGeom>
              <a:solidFill>
                <a:srgbClr val="bf4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Freeform 37"/>
              <p:cNvSpPr/>
              <p:nvPr/>
            </p:nvSpPr>
            <p:spPr>
              <a:xfrm>
                <a:off x="7696080" y="2552760"/>
                <a:ext cx="434520" cy="463320"/>
              </a:xfrm>
              <a:custGeom>
                <a:avLst/>
                <a:gdLst>
                  <a:gd name="textAreaLeft" fmla="*/ 0 w 434520"/>
                  <a:gd name="textAreaRight" fmla="*/ 434880 w 434520"/>
                  <a:gd name="textAreaTop" fmla="*/ 0 h 463320"/>
                  <a:gd name="textAreaBottom" fmla="*/ 463680 h 463320"/>
                </a:gdLst>
                <a:ahLst/>
                <a:rect l="textAreaLeft" t="textAreaTop" r="textAreaRight" b="textAreaBottom"/>
                <a:pathLst>
                  <a:path w="549" h="584">
                    <a:moveTo>
                      <a:pt x="549" y="545"/>
                    </a:moveTo>
                    <a:lnTo>
                      <a:pt x="526" y="462"/>
                    </a:lnTo>
                    <a:lnTo>
                      <a:pt x="500" y="388"/>
                    </a:lnTo>
                    <a:lnTo>
                      <a:pt x="467" y="322"/>
                    </a:lnTo>
                    <a:lnTo>
                      <a:pt x="433" y="263"/>
                    </a:lnTo>
                    <a:lnTo>
                      <a:pt x="396" y="212"/>
                    </a:lnTo>
                    <a:lnTo>
                      <a:pt x="358" y="168"/>
                    </a:lnTo>
                    <a:lnTo>
                      <a:pt x="319" y="131"/>
                    </a:lnTo>
                    <a:lnTo>
                      <a:pt x="281" y="98"/>
                    </a:lnTo>
                    <a:lnTo>
                      <a:pt x="244" y="72"/>
                    </a:lnTo>
                    <a:lnTo>
                      <a:pt x="208" y="51"/>
                    </a:lnTo>
                    <a:lnTo>
                      <a:pt x="175" y="34"/>
                    </a:lnTo>
                    <a:lnTo>
                      <a:pt x="145" y="21"/>
                    </a:lnTo>
                    <a:lnTo>
                      <a:pt x="121" y="11"/>
                    </a:lnTo>
                    <a:lnTo>
                      <a:pt x="102" y="4"/>
                    </a:lnTo>
                    <a:lnTo>
                      <a:pt x="88" y="1"/>
                    </a:lnTo>
                    <a:lnTo>
                      <a:pt x="82" y="0"/>
                    </a:lnTo>
                    <a:lnTo>
                      <a:pt x="37" y="43"/>
                    </a:lnTo>
                    <a:lnTo>
                      <a:pt x="39" y="55"/>
                    </a:lnTo>
                    <a:lnTo>
                      <a:pt x="39" y="66"/>
                    </a:lnTo>
                    <a:lnTo>
                      <a:pt x="40" y="78"/>
                    </a:lnTo>
                    <a:lnTo>
                      <a:pt x="40" y="89"/>
                    </a:lnTo>
                    <a:lnTo>
                      <a:pt x="37" y="125"/>
                    </a:lnTo>
                    <a:lnTo>
                      <a:pt x="31" y="157"/>
                    </a:lnTo>
                    <a:lnTo>
                      <a:pt x="19" y="188"/>
                    </a:lnTo>
                    <a:lnTo>
                      <a:pt x="0" y="214"/>
                    </a:lnTo>
                    <a:lnTo>
                      <a:pt x="8" y="219"/>
                    </a:lnTo>
                    <a:lnTo>
                      <a:pt x="16" y="223"/>
                    </a:lnTo>
                    <a:lnTo>
                      <a:pt x="23" y="229"/>
                    </a:lnTo>
                    <a:lnTo>
                      <a:pt x="31" y="234"/>
                    </a:lnTo>
                    <a:lnTo>
                      <a:pt x="39" y="240"/>
                    </a:lnTo>
                    <a:lnTo>
                      <a:pt x="47" y="246"/>
                    </a:lnTo>
                    <a:lnTo>
                      <a:pt x="53" y="253"/>
                    </a:lnTo>
                    <a:lnTo>
                      <a:pt x="60" y="259"/>
                    </a:lnTo>
                    <a:lnTo>
                      <a:pt x="73" y="240"/>
                    </a:lnTo>
                    <a:lnTo>
                      <a:pt x="85" y="222"/>
                    </a:lnTo>
                    <a:lnTo>
                      <a:pt x="94" y="202"/>
                    </a:lnTo>
                    <a:lnTo>
                      <a:pt x="102" y="182"/>
                    </a:lnTo>
                    <a:lnTo>
                      <a:pt x="108" y="160"/>
                    </a:lnTo>
                    <a:lnTo>
                      <a:pt x="113" y="137"/>
                    </a:lnTo>
                    <a:lnTo>
                      <a:pt x="114" y="114"/>
                    </a:lnTo>
                    <a:lnTo>
                      <a:pt x="116" y="89"/>
                    </a:lnTo>
                    <a:lnTo>
                      <a:pt x="133" y="97"/>
                    </a:lnTo>
                    <a:lnTo>
                      <a:pt x="151" y="105"/>
                    </a:lnTo>
                    <a:lnTo>
                      <a:pt x="171" y="115"/>
                    </a:lnTo>
                    <a:lnTo>
                      <a:pt x="191" y="128"/>
                    </a:lnTo>
                    <a:lnTo>
                      <a:pt x="215" y="143"/>
                    </a:lnTo>
                    <a:lnTo>
                      <a:pt x="238" y="160"/>
                    </a:lnTo>
                    <a:lnTo>
                      <a:pt x="261" y="179"/>
                    </a:lnTo>
                    <a:lnTo>
                      <a:pt x="284" y="200"/>
                    </a:lnTo>
                    <a:lnTo>
                      <a:pt x="309" y="225"/>
                    </a:lnTo>
                    <a:lnTo>
                      <a:pt x="332" y="253"/>
                    </a:lnTo>
                    <a:lnTo>
                      <a:pt x="355" y="282"/>
                    </a:lnTo>
                    <a:lnTo>
                      <a:pt x="376" y="316"/>
                    </a:lnTo>
                    <a:lnTo>
                      <a:pt x="398" y="351"/>
                    </a:lnTo>
                    <a:lnTo>
                      <a:pt x="418" y="391"/>
                    </a:lnTo>
                    <a:lnTo>
                      <a:pt x="437" y="434"/>
                    </a:lnTo>
                    <a:lnTo>
                      <a:pt x="453" y="481"/>
                    </a:lnTo>
                    <a:lnTo>
                      <a:pt x="443" y="476"/>
                    </a:lnTo>
                    <a:lnTo>
                      <a:pt x="430" y="471"/>
                    </a:lnTo>
                    <a:lnTo>
                      <a:pt x="418" y="467"/>
                    </a:lnTo>
                    <a:lnTo>
                      <a:pt x="406" y="464"/>
                    </a:lnTo>
                    <a:lnTo>
                      <a:pt x="392" y="459"/>
                    </a:lnTo>
                    <a:lnTo>
                      <a:pt x="378" y="454"/>
                    </a:lnTo>
                    <a:lnTo>
                      <a:pt x="363" y="451"/>
                    </a:lnTo>
                    <a:lnTo>
                      <a:pt x="347" y="447"/>
                    </a:lnTo>
                    <a:lnTo>
                      <a:pt x="330" y="444"/>
                    </a:lnTo>
                    <a:lnTo>
                      <a:pt x="313" y="439"/>
                    </a:lnTo>
                    <a:lnTo>
                      <a:pt x="296" y="436"/>
                    </a:lnTo>
                    <a:lnTo>
                      <a:pt x="278" y="434"/>
                    </a:lnTo>
                    <a:lnTo>
                      <a:pt x="259" y="431"/>
                    </a:lnTo>
                    <a:lnTo>
                      <a:pt x="239" y="430"/>
                    </a:lnTo>
                    <a:lnTo>
                      <a:pt x="219" y="428"/>
                    </a:lnTo>
                    <a:lnTo>
                      <a:pt x="199" y="427"/>
                    </a:lnTo>
                    <a:lnTo>
                      <a:pt x="210" y="447"/>
                    </a:lnTo>
                    <a:lnTo>
                      <a:pt x="221" y="465"/>
                    </a:lnTo>
                    <a:lnTo>
                      <a:pt x="230" y="485"/>
                    </a:lnTo>
                    <a:lnTo>
                      <a:pt x="239" y="504"/>
                    </a:lnTo>
                    <a:lnTo>
                      <a:pt x="269" y="507"/>
                    </a:lnTo>
                    <a:lnTo>
                      <a:pt x="296" y="511"/>
                    </a:lnTo>
                    <a:lnTo>
                      <a:pt x="321" y="517"/>
                    </a:lnTo>
                    <a:lnTo>
                      <a:pt x="346" y="524"/>
                    </a:lnTo>
                    <a:lnTo>
                      <a:pt x="367" y="530"/>
                    </a:lnTo>
                    <a:lnTo>
                      <a:pt x="389" y="536"/>
                    </a:lnTo>
                    <a:lnTo>
                      <a:pt x="407" y="544"/>
                    </a:lnTo>
                    <a:lnTo>
                      <a:pt x="424" y="550"/>
                    </a:lnTo>
                    <a:lnTo>
                      <a:pt x="440" y="556"/>
                    </a:lnTo>
                    <a:lnTo>
                      <a:pt x="453" y="562"/>
                    </a:lnTo>
                    <a:lnTo>
                      <a:pt x="464" y="568"/>
                    </a:lnTo>
                    <a:lnTo>
                      <a:pt x="473" y="573"/>
                    </a:lnTo>
                    <a:lnTo>
                      <a:pt x="481" y="578"/>
                    </a:lnTo>
                    <a:lnTo>
                      <a:pt x="487" y="581"/>
                    </a:lnTo>
                    <a:lnTo>
                      <a:pt x="490" y="584"/>
                    </a:lnTo>
                    <a:lnTo>
                      <a:pt x="492" y="584"/>
                    </a:lnTo>
                    <a:lnTo>
                      <a:pt x="549" y="5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Freeform 38"/>
              <p:cNvSpPr/>
              <p:nvPr/>
            </p:nvSpPr>
            <p:spPr>
              <a:xfrm>
                <a:off x="7121520" y="2590560"/>
                <a:ext cx="482040" cy="287280"/>
              </a:xfrm>
              <a:custGeom>
                <a:avLst/>
                <a:gdLst>
                  <a:gd name="textAreaLeft" fmla="*/ 0 w 482040"/>
                  <a:gd name="textAreaRight" fmla="*/ 482400 w 482040"/>
                  <a:gd name="textAreaTop" fmla="*/ 0 h 287280"/>
                  <a:gd name="textAreaBottom" fmla="*/ 287640 h 287280"/>
                </a:gdLst>
                <a:ahLst/>
                <a:rect l="textAreaLeft" t="textAreaTop" r="textAreaRight" b="textAreaBottom"/>
                <a:pathLst>
                  <a:path w="607" h="362">
                    <a:moveTo>
                      <a:pt x="94" y="270"/>
                    </a:moveTo>
                    <a:lnTo>
                      <a:pt x="134" y="216"/>
                    </a:lnTo>
                    <a:lnTo>
                      <a:pt x="172" y="173"/>
                    </a:lnTo>
                    <a:lnTo>
                      <a:pt x="209" y="139"/>
                    </a:lnTo>
                    <a:lnTo>
                      <a:pt x="243" y="113"/>
                    </a:lnTo>
                    <a:lnTo>
                      <a:pt x="272" y="96"/>
                    </a:lnTo>
                    <a:lnTo>
                      <a:pt x="295" y="83"/>
                    </a:lnTo>
                    <a:lnTo>
                      <a:pt x="311" y="77"/>
                    </a:lnTo>
                    <a:lnTo>
                      <a:pt x="317" y="76"/>
                    </a:lnTo>
                    <a:lnTo>
                      <a:pt x="323" y="74"/>
                    </a:lnTo>
                    <a:lnTo>
                      <a:pt x="337" y="74"/>
                    </a:lnTo>
                    <a:lnTo>
                      <a:pt x="356" y="74"/>
                    </a:lnTo>
                    <a:lnTo>
                      <a:pt x="380" y="77"/>
                    </a:lnTo>
                    <a:lnTo>
                      <a:pt x="410" y="83"/>
                    </a:lnTo>
                    <a:lnTo>
                      <a:pt x="440" y="96"/>
                    </a:lnTo>
                    <a:lnTo>
                      <a:pt x="476" y="114"/>
                    </a:lnTo>
                    <a:lnTo>
                      <a:pt x="513" y="139"/>
                    </a:lnTo>
                    <a:lnTo>
                      <a:pt x="524" y="133"/>
                    </a:lnTo>
                    <a:lnTo>
                      <a:pt x="536" y="128"/>
                    </a:lnTo>
                    <a:lnTo>
                      <a:pt x="547" y="125"/>
                    </a:lnTo>
                    <a:lnTo>
                      <a:pt x="559" y="122"/>
                    </a:lnTo>
                    <a:lnTo>
                      <a:pt x="570" y="120"/>
                    </a:lnTo>
                    <a:lnTo>
                      <a:pt x="582" y="120"/>
                    </a:lnTo>
                    <a:lnTo>
                      <a:pt x="594" y="120"/>
                    </a:lnTo>
                    <a:lnTo>
                      <a:pt x="607" y="122"/>
                    </a:lnTo>
                    <a:lnTo>
                      <a:pt x="579" y="96"/>
                    </a:lnTo>
                    <a:lnTo>
                      <a:pt x="551" y="74"/>
                    </a:lnTo>
                    <a:lnTo>
                      <a:pt x="525" y="56"/>
                    </a:lnTo>
                    <a:lnTo>
                      <a:pt x="499" y="40"/>
                    </a:lnTo>
                    <a:lnTo>
                      <a:pt x="473" y="28"/>
                    </a:lnTo>
                    <a:lnTo>
                      <a:pt x="448" y="19"/>
                    </a:lnTo>
                    <a:lnTo>
                      <a:pt x="425" y="11"/>
                    </a:lnTo>
                    <a:lnTo>
                      <a:pt x="402" y="6"/>
                    </a:lnTo>
                    <a:lnTo>
                      <a:pt x="382" y="3"/>
                    </a:lnTo>
                    <a:lnTo>
                      <a:pt x="363" y="0"/>
                    </a:lnTo>
                    <a:lnTo>
                      <a:pt x="346" y="0"/>
                    </a:lnTo>
                    <a:lnTo>
                      <a:pt x="332" y="0"/>
                    </a:lnTo>
                    <a:lnTo>
                      <a:pt x="320" y="0"/>
                    </a:lnTo>
                    <a:lnTo>
                      <a:pt x="311" y="2"/>
                    </a:lnTo>
                    <a:lnTo>
                      <a:pt x="305" y="3"/>
                    </a:lnTo>
                    <a:lnTo>
                      <a:pt x="302" y="3"/>
                    </a:lnTo>
                    <a:lnTo>
                      <a:pt x="299" y="3"/>
                    </a:lnTo>
                    <a:lnTo>
                      <a:pt x="292" y="6"/>
                    </a:lnTo>
                    <a:lnTo>
                      <a:pt x="283" y="9"/>
                    </a:lnTo>
                    <a:lnTo>
                      <a:pt x="271" y="14"/>
                    </a:lnTo>
                    <a:lnTo>
                      <a:pt x="255" y="20"/>
                    </a:lnTo>
                    <a:lnTo>
                      <a:pt x="238" y="29"/>
                    </a:lnTo>
                    <a:lnTo>
                      <a:pt x="218" y="40"/>
                    </a:lnTo>
                    <a:lnTo>
                      <a:pt x="198" y="52"/>
                    </a:lnTo>
                    <a:lnTo>
                      <a:pt x="175" y="69"/>
                    </a:lnTo>
                    <a:lnTo>
                      <a:pt x="152" y="88"/>
                    </a:lnTo>
                    <a:lnTo>
                      <a:pt x="128" y="111"/>
                    </a:lnTo>
                    <a:lnTo>
                      <a:pt x="103" y="137"/>
                    </a:lnTo>
                    <a:lnTo>
                      <a:pt x="77" y="166"/>
                    </a:lnTo>
                    <a:lnTo>
                      <a:pt x="50" y="199"/>
                    </a:lnTo>
                    <a:lnTo>
                      <a:pt x="24" y="237"/>
                    </a:lnTo>
                    <a:lnTo>
                      <a:pt x="0" y="279"/>
                    </a:lnTo>
                    <a:lnTo>
                      <a:pt x="26" y="334"/>
                    </a:lnTo>
                    <a:lnTo>
                      <a:pt x="30" y="336"/>
                    </a:lnTo>
                    <a:lnTo>
                      <a:pt x="38" y="337"/>
                    </a:lnTo>
                    <a:lnTo>
                      <a:pt x="49" y="339"/>
                    </a:lnTo>
                    <a:lnTo>
                      <a:pt x="63" y="341"/>
                    </a:lnTo>
                    <a:lnTo>
                      <a:pt x="80" y="344"/>
                    </a:lnTo>
                    <a:lnTo>
                      <a:pt x="98" y="347"/>
                    </a:lnTo>
                    <a:lnTo>
                      <a:pt x="120" y="350"/>
                    </a:lnTo>
                    <a:lnTo>
                      <a:pt x="144" y="351"/>
                    </a:lnTo>
                    <a:lnTo>
                      <a:pt x="171" y="354"/>
                    </a:lnTo>
                    <a:lnTo>
                      <a:pt x="198" y="357"/>
                    </a:lnTo>
                    <a:lnTo>
                      <a:pt x="228" y="359"/>
                    </a:lnTo>
                    <a:lnTo>
                      <a:pt x="257" y="361"/>
                    </a:lnTo>
                    <a:lnTo>
                      <a:pt x="289" y="362"/>
                    </a:lnTo>
                    <a:lnTo>
                      <a:pt x="322" y="362"/>
                    </a:lnTo>
                    <a:lnTo>
                      <a:pt x="356" y="362"/>
                    </a:lnTo>
                    <a:lnTo>
                      <a:pt x="389" y="361"/>
                    </a:lnTo>
                    <a:lnTo>
                      <a:pt x="393" y="341"/>
                    </a:lnTo>
                    <a:lnTo>
                      <a:pt x="397" y="322"/>
                    </a:lnTo>
                    <a:lnTo>
                      <a:pt x="402" y="304"/>
                    </a:lnTo>
                    <a:lnTo>
                      <a:pt x="408" y="285"/>
                    </a:lnTo>
                    <a:lnTo>
                      <a:pt x="385" y="287"/>
                    </a:lnTo>
                    <a:lnTo>
                      <a:pt x="362" y="287"/>
                    </a:lnTo>
                    <a:lnTo>
                      <a:pt x="339" y="287"/>
                    </a:lnTo>
                    <a:lnTo>
                      <a:pt x="317" y="287"/>
                    </a:lnTo>
                    <a:lnTo>
                      <a:pt x="294" y="287"/>
                    </a:lnTo>
                    <a:lnTo>
                      <a:pt x="272" y="287"/>
                    </a:lnTo>
                    <a:lnTo>
                      <a:pt x="251" y="285"/>
                    </a:lnTo>
                    <a:lnTo>
                      <a:pt x="231" y="284"/>
                    </a:lnTo>
                    <a:lnTo>
                      <a:pt x="211" y="282"/>
                    </a:lnTo>
                    <a:lnTo>
                      <a:pt x="191" y="280"/>
                    </a:lnTo>
                    <a:lnTo>
                      <a:pt x="172" y="279"/>
                    </a:lnTo>
                    <a:lnTo>
                      <a:pt x="155" y="277"/>
                    </a:lnTo>
                    <a:lnTo>
                      <a:pt x="138" y="276"/>
                    </a:lnTo>
                    <a:lnTo>
                      <a:pt x="121" y="273"/>
                    </a:lnTo>
                    <a:lnTo>
                      <a:pt x="107" y="271"/>
                    </a:lnTo>
                    <a:lnTo>
                      <a:pt x="94" y="2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Freeform 39"/>
              <p:cNvSpPr/>
              <p:nvPr/>
            </p:nvSpPr>
            <p:spPr>
              <a:xfrm>
                <a:off x="7354800" y="2685960"/>
                <a:ext cx="707760" cy="909720"/>
              </a:xfrm>
              <a:custGeom>
                <a:avLst/>
                <a:gdLst>
                  <a:gd name="textAreaLeft" fmla="*/ 0 w 707760"/>
                  <a:gd name="textAreaRight" fmla="*/ 707760 w 707760"/>
                  <a:gd name="textAreaTop" fmla="*/ 0 h 909720"/>
                  <a:gd name="textAreaBottom" fmla="*/ 910080 h 909720"/>
                </a:gdLst>
                <a:ahLst/>
                <a:rect l="textAreaLeft" t="textAreaTop" r="textAreaRight" b="textAreaBottom"/>
                <a:pathLst>
                  <a:path w="891" h="1146">
                    <a:moveTo>
                      <a:pt x="601" y="259"/>
                    </a:moveTo>
                    <a:lnTo>
                      <a:pt x="586" y="259"/>
                    </a:lnTo>
                    <a:lnTo>
                      <a:pt x="572" y="259"/>
                    </a:lnTo>
                    <a:lnTo>
                      <a:pt x="556" y="261"/>
                    </a:lnTo>
                    <a:lnTo>
                      <a:pt x="539" y="261"/>
                    </a:lnTo>
                    <a:lnTo>
                      <a:pt x="524" y="262"/>
                    </a:lnTo>
                    <a:lnTo>
                      <a:pt x="507" y="264"/>
                    </a:lnTo>
                    <a:lnTo>
                      <a:pt x="488" y="265"/>
                    </a:lnTo>
                    <a:lnTo>
                      <a:pt x="472" y="267"/>
                    </a:lnTo>
                    <a:lnTo>
                      <a:pt x="465" y="251"/>
                    </a:lnTo>
                    <a:lnTo>
                      <a:pt x="459" y="236"/>
                    </a:lnTo>
                    <a:lnTo>
                      <a:pt x="453" y="222"/>
                    </a:lnTo>
                    <a:lnTo>
                      <a:pt x="447" y="208"/>
                    </a:lnTo>
                    <a:lnTo>
                      <a:pt x="441" y="194"/>
                    </a:lnTo>
                    <a:lnTo>
                      <a:pt x="435" y="180"/>
                    </a:lnTo>
                    <a:lnTo>
                      <a:pt x="428" y="167"/>
                    </a:lnTo>
                    <a:lnTo>
                      <a:pt x="422" y="154"/>
                    </a:lnTo>
                    <a:lnTo>
                      <a:pt x="433" y="147"/>
                    </a:lnTo>
                    <a:lnTo>
                      <a:pt x="442" y="139"/>
                    </a:lnTo>
                    <a:lnTo>
                      <a:pt x="453" y="131"/>
                    </a:lnTo>
                    <a:lnTo>
                      <a:pt x="462" y="122"/>
                    </a:lnTo>
                    <a:lnTo>
                      <a:pt x="468" y="114"/>
                    </a:lnTo>
                    <a:lnTo>
                      <a:pt x="476" y="108"/>
                    </a:lnTo>
                    <a:lnTo>
                      <a:pt x="482" y="100"/>
                    </a:lnTo>
                    <a:lnTo>
                      <a:pt x="488" y="93"/>
                    </a:lnTo>
                    <a:lnTo>
                      <a:pt x="481" y="87"/>
                    </a:lnTo>
                    <a:lnTo>
                      <a:pt x="475" y="80"/>
                    </a:lnTo>
                    <a:lnTo>
                      <a:pt x="467" y="74"/>
                    </a:lnTo>
                    <a:lnTo>
                      <a:pt x="459" y="68"/>
                    </a:lnTo>
                    <a:lnTo>
                      <a:pt x="451" y="63"/>
                    </a:lnTo>
                    <a:lnTo>
                      <a:pt x="444" y="57"/>
                    </a:lnTo>
                    <a:lnTo>
                      <a:pt x="436" y="53"/>
                    </a:lnTo>
                    <a:lnTo>
                      <a:pt x="428" y="48"/>
                    </a:lnTo>
                    <a:lnTo>
                      <a:pt x="425" y="53"/>
                    </a:lnTo>
                    <a:lnTo>
                      <a:pt x="421" y="57"/>
                    </a:lnTo>
                    <a:lnTo>
                      <a:pt x="416" y="63"/>
                    </a:lnTo>
                    <a:lnTo>
                      <a:pt x="410" y="68"/>
                    </a:lnTo>
                    <a:lnTo>
                      <a:pt x="404" y="74"/>
                    </a:lnTo>
                    <a:lnTo>
                      <a:pt x="398" y="79"/>
                    </a:lnTo>
                    <a:lnTo>
                      <a:pt x="390" y="85"/>
                    </a:lnTo>
                    <a:lnTo>
                      <a:pt x="384" y="90"/>
                    </a:lnTo>
                    <a:lnTo>
                      <a:pt x="374" y="77"/>
                    </a:lnTo>
                    <a:lnTo>
                      <a:pt x="367" y="65"/>
                    </a:lnTo>
                    <a:lnTo>
                      <a:pt x="357" y="53"/>
                    </a:lnTo>
                    <a:lnTo>
                      <a:pt x="348" y="42"/>
                    </a:lnTo>
                    <a:lnTo>
                      <a:pt x="341" y="31"/>
                    </a:lnTo>
                    <a:lnTo>
                      <a:pt x="331" y="20"/>
                    </a:lnTo>
                    <a:lnTo>
                      <a:pt x="322" y="11"/>
                    </a:lnTo>
                    <a:lnTo>
                      <a:pt x="313" y="2"/>
                    </a:lnTo>
                    <a:lnTo>
                      <a:pt x="300" y="0"/>
                    </a:lnTo>
                    <a:lnTo>
                      <a:pt x="288" y="0"/>
                    </a:lnTo>
                    <a:lnTo>
                      <a:pt x="276" y="0"/>
                    </a:lnTo>
                    <a:lnTo>
                      <a:pt x="265" y="2"/>
                    </a:lnTo>
                    <a:lnTo>
                      <a:pt x="253" y="5"/>
                    </a:lnTo>
                    <a:lnTo>
                      <a:pt x="242" y="8"/>
                    </a:lnTo>
                    <a:lnTo>
                      <a:pt x="230" y="13"/>
                    </a:lnTo>
                    <a:lnTo>
                      <a:pt x="219" y="19"/>
                    </a:lnTo>
                    <a:lnTo>
                      <a:pt x="231" y="28"/>
                    </a:lnTo>
                    <a:lnTo>
                      <a:pt x="243" y="39"/>
                    </a:lnTo>
                    <a:lnTo>
                      <a:pt x="256" y="51"/>
                    </a:lnTo>
                    <a:lnTo>
                      <a:pt x="268" y="63"/>
                    </a:lnTo>
                    <a:lnTo>
                      <a:pt x="280" y="77"/>
                    </a:lnTo>
                    <a:lnTo>
                      <a:pt x="293" y="91"/>
                    </a:lnTo>
                    <a:lnTo>
                      <a:pt x="305" y="108"/>
                    </a:lnTo>
                    <a:lnTo>
                      <a:pt x="317" y="125"/>
                    </a:lnTo>
                    <a:lnTo>
                      <a:pt x="294" y="134"/>
                    </a:lnTo>
                    <a:lnTo>
                      <a:pt x="270" y="140"/>
                    </a:lnTo>
                    <a:lnTo>
                      <a:pt x="245" y="147"/>
                    </a:lnTo>
                    <a:lnTo>
                      <a:pt x="220" y="153"/>
                    </a:lnTo>
                    <a:lnTo>
                      <a:pt x="194" y="157"/>
                    </a:lnTo>
                    <a:lnTo>
                      <a:pt x="168" y="160"/>
                    </a:lnTo>
                    <a:lnTo>
                      <a:pt x="140" y="164"/>
                    </a:lnTo>
                    <a:lnTo>
                      <a:pt x="114" y="165"/>
                    </a:lnTo>
                    <a:lnTo>
                      <a:pt x="108" y="184"/>
                    </a:lnTo>
                    <a:lnTo>
                      <a:pt x="103" y="202"/>
                    </a:lnTo>
                    <a:lnTo>
                      <a:pt x="99" y="221"/>
                    </a:lnTo>
                    <a:lnTo>
                      <a:pt x="95" y="241"/>
                    </a:lnTo>
                    <a:lnTo>
                      <a:pt x="112" y="239"/>
                    </a:lnTo>
                    <a:lnTo>
                      <a:pt x="129" y="239"/>
                    </a:lnTo>
                    <a:lnTo>
                      <a:pt x="146" y="237"/>
                    </a:lnTo>
                    <a:lnTo>
                      <a:pt x="163" y="236"/>
                    </a:lnTo>
                    <a:lnTo>
                      <a:pt x="180" y="233"/>
                    </a:lnTo>
                    <a:lnTo>
                      <a:pt x="196" y="231"/>
                    </a:lnTo>
                    <a:lnTo>
                      <a:pt x="213" y="228"/>
                    </a:lnTo>
                    <a:lnTo>
                      <a:pt x="230" y="225"/>
                    </a:lnTo>
                    <a:lnTo>
                      <a:pt x="247" y="222"/>
                    </a:lnTo>
                    <a:lnTo>
                      <a:pt x="262" y="219"/>
                    </a:lnTo>
                    <a:lnTo>
                      <a:pt x="279" y="214"/>
                    </a:lnTo>
                    <a:lnTo>
                      <a:pt x="294" y="211"/>
                    </a:lnTo>
                    <a:lnTo>
                      <a:pt x="310" y="207"/>
                    </a:lnTo>
                    <a:lnTo>
                      <a:pt x="325" y="201"/>
                    </a:lnTo>
                    <a:lnTo>
                      <a:pt x="341" y="196"/>
                    </a:lnTo>
                    <a:lnTo>
                      <a:pt x="354" y="190"/>
                    </a:lnTo>
                    <a:lnTo>
                      <a:pt x="365" y="211"/>
                    </a:lnTo>
                    <a:lnTo>
                      <a:pt x="376" y="233"/>
                    </a:lnTo>
                    <a:lnTo>
                      <a:pt x="387" y="256"/>
                    </a:lnTo>
                    <a:lnTo>
                      <a:pt x="396" y="281"/>
                    </a:lnTo>
                    <a:lnTo>
                      <a:pt x="379" y="285"/>
                    </a:lnTo>
                    <a:lnTo>
                      <a:pt x="362" y="288"/>
                    </a:lnTo>
                    <a:lnTo>
                      <a:pt x="345" y="293"/>
                    </a:lnTo>
                    <a:lnTo>
                      <a:pt x="327" y="299"/>
                    </a:lnTo>
                    <a:lnTo>
                      <a:pt x="310" y="304"/>
                    </a:lnTo>
                    <a:lnTo>
                      <a:pt x="291" y="310"/>
                    </a:lnTo>
                    <a:lnTo>
                      <a:pt x="273" y="316"/>
                    </a:lnTo>
                    <a:lnTo>
                      <a:pt x="254" y="322"/>
                    </a:lnTo>
                    <a:lnTo>
                      <a:pt x="236" y="330"/>
                    </a:lnTo>
                    <a:lnTo>
                      <a:pt x="216" y="336"/>
                    </a:lnTo>
                    <a:lnTo>
                      <a:pt x="197" y="345"/>
                    </a:lnTo>
                    <a:lnTo>
                      <a:pt x="177" y="353"/>
                    </a:lnTo>
                    <a:lnTo>
                      <a:pt x="157" y="362"/>
                    </a:lnTo>
                    <a:lnTo>
                      <a:pt x="137" y="372"/>
                    </a:lnTo>
                    <a:lnTo>
                      <a:pt x="117" y="381"/>
                    </a:lnTo>
                    <a:lnTo>
                      <a:pt x="97" y="392"/>
                    </a:lnTo>
                    <a:lnTo>
                      <a:pt x="100" y="412"/>
                    </a:lnTo>
                    <a:lnTo>
                      <a:pt x="103" y="430"/>
                    </a:lnTo>
                    <a:lnTo>
                      <a:pt x="108" y="449"/>
                    </a:lnTo>
                    <a:lnTo>
                      <a:pt x="112" y="469"/>
                    </a:lnTo>
                    <a:lnTo>
                      <a:pt x="132" y="458"/>
                    </a:lnTo>
                    <a:lnTo>
                      <a:pt x="151" y="449"/>
                    </a:lnTo>
                    <a:lnTo>
                      <a:pt x="171" y="438"/>
                    </a:lnTo>
                    <a:lnTo>
                      <a:pt x="190" y="429"/>
                    </a:lnTo>
                    <a:lnTo>
                      <a:pt x="210" y="421"/>
                    </a:lnTo>
                    <a:lnTo>
                      <a:pt x="228" y="412"/>
                    </a:lnTo>
                    <a:lnTo>
                      <a:pt x="248" y="404"/>
                    </a:lnTo>
                    <a:lnTo>
                      <a:pt x="267" y="396"/>
                    </a:lnTo>
                    <a:lnTo>
                      <a:pt x="287" y="390"/>
                    </a:lnTo>
                    <a:lnTo>
                      <a:pt x="305" y="382"/>
                    </a:lnTo>
                    <a:lnTo>
                      <a:pt x="325" y="376"/>
                    </a:lnTo>
                    <a:lnTo>
                      <a:pt x="344" y="372"/>
                    </a:lnTo>
                    <a:lnTo>
                      <a:pt x="364" y="365"/>
                    </a:lnTo>
                    <a:lnTo>
                      <a:pt x="382" y="361"/>
                    </a:lnTo>
                    <a:lnTo>
                      <a:pt x="402" y="356"/>
                    </a:lnTo>
                    <a:lnTo>
                      <a:pt x="421" y="351"/>
                    </a:lnTo>
                    <a:lnTo>
                      <a:pt x="431" y="390"/>
                    </a:lnTo>
                    <a:lnTo>
                      <a:pt x="439" y="427"/>
                    </a:lnTo>
                    <a:lnTo>
                      <a:pt x="445" y="464"/>
                    </a:lnTo>
                    <a:lnTo>
                      <a:pt x="448" y="501"/>
                    </a:lnTo>
                    <a:lnTo>
                      <a:pt x="430" y="506"/>
                    </a:lnTo>
                    <a:lnTo>
                      <a:pt x="413" y="512"/>
                    </a:lnTo>
                    <a:lnTo>
                      <a:pt x="394" y="518"/>
                    </a:lnTo>
                    <a:lnTo>
                      <a:pt x="378" y="526"/>
                    </a:lnTo>
                    <a:lnTo>
                      <a:pt x="361" y="533"/>
                    </a:lnTo>
                    <a:lnTo>
                      <a:pt x="342" y="543"/>
                    </a:lnTo>
                    <a:lnTo>
                      <a:pt x="325" y="552"/>
                    </a:lnTo>
                    <a:lnTo>
                      <a:pt x="308" y="561"/>
                    </a:lnTo>
                    <a:lnTo>
                      <a:pt x="291" y="572"/>
                    </a:lnTo>
                    <a:lnTo>
                      <a:pt x="274" y="583"/>
                    </a:lnTo>
                    <a:lnTo>
                      <a:pt x="259" y="593"/>
                    </a:lnTo>
                    <a:lnTo>
                      <a:pt x="242" y="606"/>
                    </a:lnTo>
                    <a:lnTo>
                      <a:pt x="226" y="618"/>
                    </a:lnTo>
                    <a:lnTo>
                      <a:pt x="210" y="630"/>
                    </a:lnTo>
                    <a:lnTo>
                      <a:pt x="194" y="643"/>
                    </a:lnTo>
                    <a:lnTo>
                      <a:pt x="179" y="656"/>
                    </a:lnTo>
                    <a:lnTo>
                      <a:pt x="188" y="677"/>
                    </a:lnTo>
                    <a:lnTo>
                      <a:pt x="197" y="695"/>
                    </a:lnTo>
                    <a:lnTo>
                      <a:pt x="205" y="710"/>
                    </a:lnTo>
                    <a:lnTo>
                      <a:pt x="213" y="726"/>
                    </a:lnTo>
                    <a:lnTo>
                      <a:pt x="240" y="703"/>
                    </a:lnTo>
                    <a:lnTo>
                      <a:pt x="268" y="680"/>
                    </a:lnTo>
                    <a:lnTo>
                      <a:pt x="297" y="658"/>
                    </a:lnTo>
                    <a:lnTo>
                      <a:pt x="327" y="638"/>
                    </a:lnTo>
                    <a:lnTo>
                      <a:pt x="357" y="620"/>
                    </a:lnTo>
                    <a:lnTo>
                      <a:pt x="387" y="603"/>
                    </a:lnTo>
                    <a:lnTo>
                      <a:pt x="418" y="589"/>
                    </a:lnTo>
                    <a:lnTo>
                      <a:pt x="448" y="578"/>
                    </a:lnTo>
                    <a:lnTo>
                      <a:pt x="445" y="607"/>
                    </a:lnTo>
                    <a:lnTo>
                      <a:pt x="442" y="638"/>
                    </a:lnTo>
                    <a:lnTo>
                      <a:pt x="438" y="667"/>
                    </a:lnTo>
                    <a:lnTo>
                      <a:pt x="431" y="697"/>
                    </a:lnTo>
                    <a:lnTo>
                      <a:pt x="424" y="726"/>
                    </a:lnTo>
                    <a:lnTo>
                      <a:pt x="415" y="755"/>
                    </a:lnTo>
                    <a:lnTo>
                      <a:pt x="404" y="784"/>
                    </a:lnTo>
                    <a:lnTo>
                      <a:pt x="391" y="814"/>
                    </a:lnTo>
                    <a:lnTo>
                      <a:pt x="370" y="857"/>
                    </a:lnTo>
                    <a:lnTo>
                      <a:pt x="348" y="894"/>
                    </a:lnTo>
                    <a:lnTo>
                      <a:pt x="327" y="928"/>
                    </a:lnTo>
                    <a:lnTo>
                      <a:pt x="305" y="954"/>
                    </a:lnTo>
                    <a:lnTo>
                      <a:pt x="288" y="977"/>
                    </a:lnTo>
                    <a:lnTo>
                      <a:pt x="274" y="992"/>
                    </a:lnTo>
                    <a:lnTo>
                      <a:pt x="263" y="1003"/>
                    </a:lnTo>
                    <a:lnTo>
                      <a:pt x="260" y="1006"/>
                    </a:lnTo>
                    <a:lnTo>
                      <a:pt x="313" y="1060"/>
                    </a:lnTo>
                    <a:lnTo>
                      <a:pt x="317" y="1055"/>
                    </a:lnTo>
                    <a:lnTo>
                      <a:pt x="328" y="1045"/>
                    </a:lnTo>
                    <a:lnTo>
                      <a:pt x="344" y="1026"/>
                    </a:lnTo>
                    <a:lnTo>
                      <a:pt x="364" y="1002"/>
                    </a:lnTo>
                    <a:lnTo>
                      <a:pt x="387" y="972"/>
                    </a:lnTo>
                    <a:lnTo>
                      <a:pt x="410" y="935"/>
                    </a:lnTo>
                    <a:lnTo>
                      <a:pt x="435" y="894"/>
                    </a:lnTo>
                    <a:lnTo>
                      <a:pt x="458" y="846"/>
                    </a:lnTo>
                    <a:lnTo>
                      <a:pt x="470" y="818"/>
                    </a:lnTo>
                    <a:lnTo>
                      <a:pt x="481" y="789"/>
                    </a:lnTo>
                    <a:lnTo>
                      <a:pt x="492" y="757"/>
                    </a:lnTo>
                    <a:lnTo>
                      <a:pt x="502" y="721"/>
                    </a:lnTo>
                    <a:lnTo>
                      <a:pt x="510" y="686"/>
                    </a:lnTo>
                    <a:lnTo>
                      <a:pt x="516" y="647"/>
                    </a:lnTo>
                    <a:lnTo>
                      <a:pt x="521" y="607"/>
                    </a:lnTo>
                    <a:lnTo>
                      <a:pt x="524" y="566"/>
                    </a:lnTo>
                    <a:lnTo>
                      <a:pt x="532" y="566"/>
                    </a:lnTo>
                    <a:lnTo>
                      <a:pt x="539" y="566"/>
                    </a:lnTo>
                    <a:lnTo>
                      <a:pt x="547" y="566"/>
                    </a:lnTo>
                    <a:lnTo>
                      <a:pt x="555" y="567"/>
                    </a:lnTo>
                    <a:lnTo>
                      <a:pt x="573" y="570"/>
                    </a:lnTo>
                    <a:lnTo>
                      <a:pt x="592" y="575"/>
                    </a:lnTo>
                    <a:lnTo>
                      <a:pt x="610" y="581"/>
                    </a:lnTo>
                    <a:lnTo>
                      <a:pt x="627" y="590"/>
                    </a:lnTo>
                    <a:lnTo>
                      <a:pt x="646" y="599"/>
                    </a:lnTo>
                    <a:lnTo>
                      <a:pt x="663" y="612"/>
                    </a:lnTo>
                    <a:lnTo>
                      <a:pt x="678" y="626"/>
                    </a:lnTo>
                    <a:lnTo>
                      <a:pt x="695" y="640"/>
                    </a:lnTo>
                    <a:lnTo>
                      <a:pt x="710" y="658"/>
                    </a:lnTo>
                    <a:lnTo>
                      <a:pt x="724" y="677"/>
                    </a:lnTo>
                    <a:lnTo>
                      <a:pt x="740" y="697"/>
                    </a:lnTo>
                    <a:lnTo>
                      <a:pt x="754" y="718"/>
                    </a:lnTo>
                    <a:lnTo>
                      <a:pt x="767" y="743"/>
                    </a:lnTo>
                    <a:lnTo>
                      <a:pt x="781" y="769"/>
                    </a:lnTo>
                    <a:lnTo>
                      <a:pt x="794" y="795"/>
                    </a:lnTo>
                    <a:lnTo>
                      <a:pt x="806" y="824"/>
                    </a:lnTo>
                    <a:lnTo>
                      <a:pt x="795" y="838"/>
                    </a:lnTo>
                    <a:lnTo>
                      <a:pt x="780" y="855"/>
                    </a:lnTo>
                    <a:lnTo>
                      <a:pt x="761" y="875"/>
                    </a:lnTo>
                    <a:lnTo>
                      <a:pt x="740" y="897"/>
                    </a:lnTo>
                    <a:lnTo>
                      <a:pt x="713" y="920"/>
                    </a:lnTo>
                    <a:lnTo>
                      <a:pt x="684" y="945"/>
                    </a:lnTo>
                    <a:lnTo>
                      <a:pt x="652" y="968"/>
                    </a:lnTo>
                    <a:lnTo>
                      <a:pt x="615" y="991"/>
                    </a:lnTo>
                    <a:lnTo>
                      <a:pt x="582" y="1009"/>
                    </a:lnTo>
                    <a:lnTo>
                      <a:pt x="549" y="1025"/>
                    </a:lnTo>
                    <a:lnTo>
                      <a:pt x="515" y="1039"/>
                    </a:lnTo>
                    <a:lnTo>
                      <a:pt x="481" y="1049"/>
                    </a:lnTo>
                    <a:lnTo>
                      <a:pt x="445" y="1059"/>
                    </a:lnTo>
                    <a:lnTo>
                      <a:pt x="410" y="1065"/>
                    </a:lnTo>
                    <a:lnTo>
                      <a:pt x="373" y="1069"/>
                    </a:lnTo>
                    <a:lnTo>
                      <a:pt x="337" y="1071"/>
                    </a:lnTo>
                    <a:lnTo>
                      <a:pt x="300" y="1072"/>
                    </a:lnTo>
                    <a:lnTo>
                      <a:pt x="263" y="1069"/>
                    </a:lnTo>
                    <a:lnTo>
                      <a:pt x="225" y="1065"/>
                    </a:lnTo>
                    <a:lnTo>
                      <a:pt x="186" y="1059"/>
                    </a:lnTo>
                    <a:lnTo>
                      <a:pt x="148" y="1049"/>
                    </a:lnTo>
                    <a:lnTo>
                      <a:pt x="109" y="1039"/>
                    </a:lnTo>
                    <a:lnTo>
                      <a:pt x="69" y="1025"/>
                    </a:lnTo>
                    <a:lnTo>
                      <a:pt x="29" y="1009"/>
                    </a:lnTo>
                    <a:lnTo>
                      <a:pt x="0" y="1079"/>
                    </a:lnTo>
                    <a:lnTo>
                      <a:pt x="54" y="1100"/>
                    </a:lnTo>
                    <a:lnTo>
                      <a:pt x="108" y="1116"/>
                    </a:lnTo>
                    <a:lnTo>
                      <a:pt x="159" y="1129"/>
                    </a:lnTo>
                    <a:lnTo>
                      <a:pt x="208" y="1139"/>
                    </a:lnTo>
                    <a:lnTo>
                      <a:pt x="256" y="1143"/>
                    </a:lnTo>
                    <a:lnTo>
                      <a:pt x="302" y="1146"/>
                    </a:lnTo>
                    <a:lnTo>
                      <a:pt x="345" y="1146"/>
                    </a:lnTo>
                    <a:lnTo>
                      <a:pt x="388" y="1142"/>
                    </a:lnTo>
                    <a:lnTo>
                      <a:pt x="428" y="1137"/>
                    </a:lnTo>
                    <a:lnTo>
                      <a:pt x="465" y="1129"/>
                    </a:lnTo>
                    <a:lnTo>
                      <a:pt x="502" y="1120"/>
                    </a:lnTo>
                    <a:lnTo>
                      <a:pt x="536" y="1109"/>
                    </a:lnTo>
                    <a:lnTo>
                      <a:pt x="570" y="1097"/>
                    </a:lnTo>
                    <a:lnTo>
                      <a:pt x="599" y="1083"/>
                    </a:lnTo>
                    <a:lnTo>
                      <a:pt x="629" y="1069"/>
                    </a:lnTo>
                    <a:lnTo>
                      <a:pt x="655" y="1054"/>
                    </a:lnTo>
                    <a:lnTo>
                      <a:pt x="706" y="1022"/>
                    </a:lnTo>
                    <a:lnTo>
                      <a:pt x="752" y="986"/>
                    </a:lnTo>
                    <a:lnTo>
                      <a:pt x="789" y="954"/>
                    </a:lnTo>
                    <a:lnTo>
                      <a:pt x="821" y="921"/>
                    </a:lnTo>
                    <a:lnTo>
                      <a:pt x="846" y="894"/>
                    </a:lnTo>
                    <a:lnTo>
                      <a:pt x="865" y="871"/>
                    </a:lnTo>
                    <a:lnTo>
                      <a:pt x="875" y="855"/>
                    </a:lnTo>
                    <a:lnTo>
                      <a:pt x="880" y="849"/>
                    </a:lnTo>
                    <a:lnTo>
                      <a:pt x="891" y="834"/>
                    </a:lnTo>
                    <a:lnTo>
                      <a:pt x="883" y="817"/>
                    </a:lnTo>
                    <a:lnTo>
                      <a:pt x="868" y="780"/>
                    </a:lnTo>
                    <a:lnTo>
                      <a:pt x="852" y="746"/>
                    </a:lnTo>
                    <a:lnTo>
                      <a:pt x="837" y="713"/>
                    </a:lnTo>
                    <a:lnTo>
                      <a:pt x="820" y="684"/>
                    </a:lnTo>
                    <a:lnTo>
                      <a:pt x="803" y="655"/>
                    </a:lnTo>
                    <a:lnTo>
                      <a:pt x="784" y="630"/>
                    </a:lnTo>
                    <a:lnTo>
                      <a:pt x="764" y="606"/>
                    </a:lnTo>
                    <a:lnTo>
                      <a:pt x="746" y="584"/>
                    </a:lnTo>
                    <a:lnTo>
                      <a:pt x="726" y="566"/>
                    </a:lnTo>
                    <a:lnTo>
                      <a:pt x="704" y="549"/>
                    </a:lnTo>
                    <a:lnTo>
                      <a:pt x="683" y="533"/>
                    </a:lnTo>
                    <a:lnTo>
                      <a:pt x="660" y="521"/>
                    </a:lnTo>
                    <a:lnTo>
                      <a:pt x="636" y="510"/>
                    </a:lnTo>
                    <a:lnTo>
                      <a:pt x="613" y="502"/>
                    </a:lnTo>
                    <a:lnTo>
                      <a:pt x="589" y="496"/>
                    </a:lnTo>
                    <a:lnTo>
                      <a:pt x="564" y="492"/>
                    </a:lnTo>
                    <a:lnTo>
                      <a:pt x="553" y="490"/>
                    </a:lnTo>
                    <a:lnTo>
                      <a:pt x="544" y="490"/>
                    </a:lnTo>
                    <a:lnTo>
                      <a:pt x="533" y="490"/>
                    </a:lnTo>
                    <a:lnTo>
                      <a:pt x="522" y="490"/>
                    </a:lnTo>
                    <a:lnTo>
                      <a:pt x="519" y="455"/>
                    </a:lnTo>
                    <a:lnTo>
                      <a:pt x="513" y="416"/>
                    </a:lnTo>
                    <a:lnTo>
                      <a:pt x="505" y="379"/>
                    </a:lnTo>
                    <a:lnTo>
                      <a:pt x="496" y="339"/>
                    </a:lnTo>
                    <a:lnTo>
                      <a:pt x="509" y="338"/>
                    </a:lnTo>
                    <a:lnTo>
                      <a:pt x="521" y="338"/>
                    </a:lnTo>
                    <a:lnTo>
                      <a:pt x="533" y="336"/>
                    </a:lnTo>
                    <a:lnTo>
                      <a:pt x="545" y="336"/>
                    </a:lnTo>
                    <a:lnTo>
                      <a:pt x="558" y="335"/>
                    </a:lnTo>
                    <a:lnTo>
                      <a:pt x="570" y="335"/>
                    </a:lnTo>
                    <a:lnTo>
                      <a:pt x="582" y="335"/>
                    </a:lnTo>
                    <a:lnTo>
                      <a:pt x="595" y="335"/>
                    </a:lnTo>
                    <a:lnTo>
                      <a:pt x="604" y="335"/>
                    </a:lnTo>
                    <a:lnTo>
                      <a:pt x="613" y="335"/>
                    </a:lnTo>
                    <a:lnTo>
                      <a:pt x="623" y="335"/>
                    </a:lnTo>
                    <a:lnTo>
                      <a:pt x="632" y="336"/>
                    </a:lnTo>
                    <a:lnTo>
                      <a:pt x="641" y="336"/>
                    </a:lnTo>
                    <a:lnTo>
                      <a:pt x="650" y="336"/>
                    </a:lnTo>
                    <a:lnTo>
                      <a:pt x="658" y="338"/>
                    </a:lnTo>
                    <a:lnTo>
                      <a:pt x="667" y="338"/>
                    </a:lnTo>
                    <a:lnTo>
                      <a:pt x="658" y="319"/>
                    </a:lnTo>
                    <a:lnTo>
                      <a:pt x="649" y="299"/>
                    </a:lnTo>
                    <a:lnTo>
                      <a:pt x="638" y="281"/>
                    </a:lnTo>
                    <a:lnTo>
                      <a:pt x="627" y="261"/>
                    </a:lnTo>
                    <a:lnTo>
                      <a:pt x="621" y="259"/>
                    </a:lnTo>
                    <a:lnTo>
                      <a:pt x="615" y="259"/>
                    </a:lnTo>
                    <a:lnTo>
                      <a:pt x="607" y="259"/>
                    </a:lnTo>
                    <a:lnTo>
                      <a:pt x="601" y="2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Freeform 40"/>
              <p:cNvSpPr/>
              <p:nvPr/>
            </p:nvSpPr>
            <p:spPr>
              <a:xfrm>
                <a:off x="7099200" y="2995560"/>
                <a:ext cx="425160" cy="517320"/>
              </a:xfrm>
              <a:custGeom>
                <a:avLst/>
                <a:gdLst>
                  <a:gd name="textAreaLeft" fmla="*/ 0 w 425160"/>
                  <a:gd name="textAreaRight" fmla="*/ 425520 w 425160"/>
                  <a:gd name="textAreaTop" fmla="*/ 0 h 517320"/>
                  <a:gd name="textAreaBottom" fmla="*/ 517680 h 517320"/>
                </a:gdLst>
                <a:ahLst/>
                <a:rect l="textAreaLeft" t="textAreaTop" r="textAreaRight" b="textAreaBottom"/>
                <a:pathLst>
                  <a:path w="535" h="651">
                    <a:moveTo>
                      <a:pt x="246" y="545"/>
                    </a:moveTo>
                    <a:lnTo>
                      <a:pt x="211" y="514"/>
                    </a:lnTo>
                    <a:lnTo>
                      <a:pt x="180" y="483"/>
                    </a:lnTo>
                    <a:lnTo>
                      <a:pt x="154" y="452"/>
                    </a:lnTo>
                    <a:lnTo>
                      <a:pt x="132" y="423"/>
                    </a:lnTo>
                    <a:lnTo>
                      <a:pt x="114" y="395"/>
                    </a:lnTo>
                    <a:lnTo>
                      <a:pt x="100" y="371"/>
                    </a:lnTo>
                    <a:lnTo>
                      <a:pt x="88" y="349"/>
                    </a:lnTo>
                    <a:lnTo>
                      <a:pt x="80" y="332"/>
                    </a:lnTo>
                    <a:lnTo>
                      <a:pt x="102" y="312"/>
                    </a:lnTo>
                    <a:lnTo>
                      <a:pt x="125" y="294"/>
                    </a:lnTo>
                    <a:lnTo>
                      <a:pt x="146" y="275"/>
                    </a:lnTo>
                    <a:lnTo>
                      <a:pt x="169" y="257"/>
                    </a:lnTo>
                    <a:lnTo>
                      <a:pt x="191" y="238"/>
                    </a:lnTo>
                    <a:lnTo>
                      <a:pt x="213" y="221"/>
                    </a:lnTo>
                    <a:lnTo>
                      <a:pt x="236" y="204"/>
                    </a:lnTo>
                    <a:lnTo>
                      <a:pt x="257" y="187"/>
                    </a:lnTo>
                    <a:lnTo>
                      <a:pt x="279" y="172"/>
                    </a:lnTo>
                    <a:lnTo>
                      <a:pt x="302" y="157"/>
                    </a:lnTo>
                    <a:lnTo>
                      <a:pt x="323" y="143"/>
                    </a:lnTo>
                    <a:lnTo>
                      <a:pt x="345" y="129"/>
                    </a:lnTo>
                    <a:lnTo>
                      <a:pt x="368" y="115"/>
                    </a:lnTo>
                    <a:lnTo>
                      <a:pt x="390" y="101"/>
                    </a:lnTo>
                    <a:lnTo>
                      <a:pt x="413" y="89"/>
                    </a:lnTo>
                    <a:lnTo>
                      <a:pt x="434" y="77"/>
                    </a:lnTo>
                    <a:lnTo>
                      <a:pt x="430" y="57"/>
                    </a:lnTo>
                    <a:lnTo>
                      <a:pt x="425" y="38"/>
                    </a:lnTo>
                    <a:lnTo>
                      <a:pt x="422" y="20"/>
                    </a:lnTo>
                    <a:lnTo>
                      <a:pt x="419" y="0"/>
                    </a:lnTo>
                    <a:lnTo>
                      <a:pt x="396" y="12"/>
                    </a:lnTo>
                    <a:lnTo>
                      <a:pt x="371" y="26"/>
                    </a:lnTo>
                    <a:lnTo>
                      <a:pt x="348" y="40"/>
                    </a:lnTo>
                    <a:lnTo>
                      <a:pt x="323" y="53"/>
                    </a:lnTo>
                    <a:lnTo>
                      <a:pt x="299" y="69"/>
                    </a:lnTo>
                    <a:lnTo>
                      <a:pt x="274" y="86"/>
                    </a:lnTo>
                    <a:lnTo>
                      <a:pt x="248" y="103"/>
                    </a:lnTo>
                    <a:lnTo>
                      <a:pt x="223" y="120"/>
                    </a:lnTo>
                    <a:lnTo>
                      <a:pt x="197" y="138"/>
                    </a:lnTo>
                    <a:lnTo>
                      <a:pt x="171" y="158"/>
                    </a:lnTo>
                    <a:lnTo>
                      <a:pt x="145" y="178"/>
                    </a:lnTo>
                    <a:lnTo>
                      <a:pt x="119" y="200"/>
                    </a:lnTo>
                    <a:lnTo>
                      <a:pt x="92" y="221"/>
                    </a:lnTo>
                    <a:lnTo>
                      <a:pt x="65" y="244"/>
                    </a:lnTo>
                    <a:lnTo>
                      <a:pt x="38" y="269"/>
                    </a:lnTo>
                    <a:lnTo>
                      <a:pt x="11" y="294"/>
                    </a:lnTo>
                    <a:lnTo>
                      <a:pt x="0" y="332"/>
                    </a:lnTo>
                    <a:lnTo>
                      <a:pt x="3" y="342"/>
                    </a:lnTo>
                    <a:lnTo>
                      <a:pt x="12" y="363"/>
                    </a:lnTo>
                    <a:lnTo>
                      <a:pt x="28" y="395"/>
                    </a:lnTo>
                    <a:lnTo>
                      <a:pt x="51" y="435"/>
                    </a:lnTo>
                    <a:lnTo>
                      <a:pt x="82" y="480"/>
                    </a:lnTo>
                    <a:lnTo>
                      <a:pt x="122" y="529"/>
                    </a:lnTo>
                    <a:lnTo>
                      <a:pt x="172" y="579"/>
                    </a:lnTo>
                    <a:lnTo>
                      <a:pt x="233" y="628"/>
                    </a:lnTo>
                    <a:lnTo>
                      <a:pt x="263" y="651"/>
                    </a:lnTo>
                    <a:lnTo>
                      <a:pt x="285" y="619"/>
                    </a:lnTo>
                    <a:lnTo>
                      <a:pt x="287" y="616"/>
                    </a:lnTo>
                    <a:lnTo>
                      <a:pt x="291" y="611"/>
                    </a:lnTo>
                    <a:lnTo>
                      <a:pt x="297" y="602"/>
                    </a:lnTo>
                    <a:lnTo>
                      <a:pt x="305" y="591"/>
                    </a:lnTo>
                    <a:lnTo>
                      <a:pt x="316" y="577"/>
                    </a:lnTo>
                    <a:lnTo>
                      <a:pt x="328" y="560"/>
                    </a:lnTo>
                    <a:lnTo>
                      <a:pt x="342" y="542"/>
                    </a:lnTo>
                    <a:lnTo>
                      <a:pt x="357" y="522"/>
                    </a:lnTo>
                    <a:lnTo>
                      <a:pt x="376" y="502"/>
                    </a:lnTo>
                    <a:lnTo>
                      <a:pt x="394" y="479"/>
                    </a:lnTo>
                    <a:lnTo>
                      <a:pt x="414" y="456"/>
                    </a:lnTo>
                    <a:lnTo>
                      <a:pt x="436" y="431"/>
                    </a:lnTo>
                    <a:lnTo>
                      <a:pt x="459" y="406"/>
                    </a:lnTo>
                    <a:lnTo>
                      <a:pt x="484" y="382"/>
                    </a:lnTo>
                    <a:lnTo>
                      <a:pt x="508" y="358"/>
                    </a:lnTo>
                    <a:lnTo>
                      <a:pt x="535" y="334"/>
                    </a:lnTo>
                    <a:lnTo>
                      <a:pt x="527" y="318"/>
                    </a:lnTo>
                    <a:lnTo>
                      <a:pt x="519" y="303"/>
                    </a:lnTo>
                    <a:lnTo>
                      <a:pt x="510" y="285"/>
                    </a:lnTo>
                    <a:lnTo>
                      <a:pt x="501" y="264"/>
                    </a:lnTo>
                    <a:lnTo>
                      <a:pt x="479" y="285"/>
                    </a:lnTo>
                    <a:lnTo>
                      <a:pt x="458" y="303"/>
                    </a:lnTo>
                    <a:lnTo>
                      <a:pt x="436" y="323"/>
                    </a:lnTo>
                    <a:lnTo>
                      <a:pt x="417" y="343"/>
                    </a:lnTo>
                    <a:lnTo>
                      <a:pt x="397" y="363"/>
                    </a:lnTo>
                    <a:lnTo>
                      <a:pt x="379" y="383"/>
                    </a:lnTo>
                    <a:lnTo>
                      <a:pt x="362" y="402"/>
                    </a:lnTo>
                    <a:lnTo>
                      <a:pt x="345" y="422"/>
                    </a:lnTo>
                    <a:lnTo>
                      <a:pt x="328" y="440"/>
                    </a:lnTo>
                    <a:lnTo>
                      <a:pt x="314" y="459"/>
                    </a:lnTo>
                    <a:lnTo>
                      <a:pt x="300" y="476"/>
                    </a:lnTo>
                    <a:lnTo>
                      <a:pt x="287" y="491"/>
                    </a:lnTo>
                    <a:lnTo>
                      <a:pt x="276" y="506"/>
                    </a:lnTo>
                    <a:lnTo>
                      <a:pt x="265" y="520"/>
                    </a:lnTo>
                    <a:lnTo>
                      <a:pt x="254" y="534"/>
                    </a:lnTo>
                    <a:lnTo>
                      <a:pt x="246" y="5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Calibri"/>
              </a:rPr>
              <a:t>Uses of Vector Graphics</a:t>
            </a:r>
            <a:endParaRPr b="0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1143000" y="1219320"/>
            <a:ext cx="7284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Graphics that will be scaled (or resized)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rchitectural drawings and CAD program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low charts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Logos that will be scaled (resized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artoons and clip ar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Graphics on website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Because they have very small file sizes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s allows them to load quickly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nts and specialized text effect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Calibri"/>
              </a:rPr>
              <a:t>Advantages of Vectors</a:t>
            </a:r>
            <a:endParaRPr b="0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1173240" y="1981080"/>
            <a:ext cx="7208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Resolution Independen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Regardless of how much the image is enlarged or reduced, the image definition and quality remain the same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mall File Size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Easily transferred over the Internet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Calibri"/>
              </a:rPr>
              <a:t>Disadvantages of Vectors</a:t>
            </a:r>
            <a:endParaRPr b="0" lang="en-US" sz="4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1172880" y="1981080"/>
            <a:ext cx="667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Lower color quality than raster image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y do not support as many color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Not good for photographic image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ccff"/>
                </a:solidFill>
                <a:uFillTx/>
                <a:latin typeface="Cambria"/>
                <a:hlinkClick r:id="rId1"/>
              </a:rPr>
              <a:t>Click to see an exampl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opular Vector Graphic Software</a:t>
            </a:r>
            <a:endParaRPr b="0" lang="en-US" sz="4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Xara Xtrem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Adobe Illustrator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orelDraw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DXF - AutoCAD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Inkscape – open source software similar to Adobe Illustrator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1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2800"/>
            </a:br>
            <a:br>
              <a:rPr sz="2400"/>
            </a:br>
            <a:br>
              <a:rPr sz="12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990360" y="1219320"/>
            <a:ext cx="79246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AI – Adobe Illustrator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dustry standard used by developers of vector graphic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sed to create, save, and archive original artwork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EPS – Encapsulated Postscript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eta Graphic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raphics developers generally save a copy of the AI file in EPS format because it can be opened by computers running different operating system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referred format for vendors/clients  who use the graphics in publications due to its portabilit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9" name="Text Box 5"/>
          <p:cNvSpPr/>
          <p:nvPr/>
        </p:nvSpPr>
        <p:spPr>
          <a:xfrm>
            <a:off x="990720" y="3808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Calibri"/>
              </a:rPr>
              <a:t>Common Vector File Forma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Calibri"/>
              </a:rPr>
              <a:t>Meta Graphics</a:t>
            </a:r>
            <a:endParaRPr b="0" lang="en-US" sz="40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17324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an contain vector and raster data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hapes in vector graphics can be filled with textures and patterns that are raster graphic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Useful when layering text on top of raster graphic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WMF – Windows Metafile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EPS – Encapsulated Postscrip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20:11:21Z</dcterms:created>
  <dc:creator>SWRHS</dc:creator>
  <dc:description/>
  <dc:language>en-US</dc:language>
  <cp:lastModifiedBy>ycsadmin</cp:lastModifiedBy>
  <dcterms:modified xsi:type="dcterms:W3CDTF">2011-05-13T05:17:19Z</dcterms:modified>
  <cp:revision>135</cp:revision>
  <dc:subject/>
  <dc:title>What is a Graphic?</dc:title>
</cp:coreProperties>
</file>